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AD39-BF8C-4EC0-993B-56EE9596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065-382B-4249-BAE7-ED99F2C7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C76-ACE4-4B61-8988-0F68B2A6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FAF-63D3-40B2-8CB4-A3CFE0B1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CFD-25ED-452F-A522-3F9A6CAB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4E5-1409-4E53-A225-C8AFEC36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0C8-6A80-4039-B734-9134F35D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C20F-C73B-4672-8875-254569E8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247-F970-4CB3-9E95-3F903319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6CC-31B4-4DAE-B96D-C9A5CF3B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E8D-C8BD-443E-B155-F2B07A1C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85B-8EB8-4024-867E-0DFC51E8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1F44-B58C-497D-B231-91C6F6DDB0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85800" y="609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radan2</cp:lastModifiedBy>
  <dcterms:modified xsi:type="dcterms:W3CDTF">2016-03-01T17:17:53Z</dcterms:modified>
  <cp:revision>53</cp:revision>
  <dc:subject/>
  <dc:title>Texto</dc:title>
</cp:coreProperties>
</file>