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DDFD-6AD4-4756-838D-A47A6005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C44-0B39-4A00-B976-AA4E65DA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8ECB-3B76-4979-991E-DD764BD88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DCB-53B0-4E27-B76D-DE42FFA4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AAEA-116A-49AD-AE50-222B232B8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C05-5DF8-4EA2-A2E1-5FB11FEA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E47F-918A-48AE-A7EF-D7C680AB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BFB-43B3-4C74-95FC-BF55E2300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177-703D-4F89-88F1-CD1FF812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D929-4C55-49C4-B515-E192EB1E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C401-57A8-48CD-A1B4-F2698F383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9628-69F6-4C59-AA19-BCE4587A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D95E-EF60-4EFC-9C6C-F7B66729D10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4868640"/>
            <a:ext cx="4103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7"/>
          <p:cNvSpPr/>
          <p:nvPr/>
        </p:nvSpPr>
        <p:spPr>
          <a:xfrm>
            <a:off x="539640" y="5373720"/>
            <a:ext cx="3311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708360" y="58784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ontent Placeholder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3-02T14:25:13Z</dcterms:modified>
  <cp:revision>720</cp:revision>
  <dc:subject/>
  <dc:title>Diapositiva 1</dc:title>
</cp:coreProperties>
</file>