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E7B-CABB-48CA-BE49-819115D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E4B-1781-4D87-B559-58E9D18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762-3384-4C3C-BFAA-4C5B8E90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F74-CFA0-4C46-826F-FB3AE75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438-2CBD-40A4-904C-138FAF85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655-132D-498C-85ED-3B97B74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DB3-0128-4365-B593-2A39F19D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C26-66DE-4F23-9D26-59FD467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65E-7D74-4FFB-ACE7-FE386B7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27A-1FB5-4663-9210-B9BCE96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3A5-6393-4E87-908E-D4F2D50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6E7-33D2-4ABA-AE3B-81CAD2F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DE6-5B77-41F3-B46F-A49AB33D3B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341000"/>
            <a:ext cx="547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859280" y="1989000"/>
            <a:ext cx="35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71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26T12:55:38Z</dcterms:modified>
  <cp:revision>827</cp:revision>
  <dc:subject/>
  <dc:title>Diapositiva 1</dc:title>
</cp:coreProperties>
</file>