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674-21C5-4E29-84F7-CDC0C0BC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280-41F4-4A31-9D49-3A608DB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245-CF50-4C2E-B29C-23288EC0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C80-CD8A-42B8-BC5E-DE3323EB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CB7-0989-48D7-AB38-E97F8B8F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E95-495B-4F06-9EE0-5D65F9C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B53-DAFE-41AF-8816-1FE096BB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504-35B9-4EBE-B12E-B8E3AC4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C41-B875-4A1F-A636-C23AE13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8F1-43F9-4C15-85CC-E18493D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0B9-08E3-45F2-BE0A-D40BF39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095-795B-40C2-8080-EF6247A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3928-EAE1-4A11-B015-726F9050B8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78280" y="5924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01:03Z</dcterms:modified>
  <cp:revision>26</cp:revision>
  <dc:subject/>
  <dc:title>Diapositiva 1</dc:title>
</cp:coreProperties>
</file>