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7CF-8D90-4891-BFBE-EA0849C1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097-60A3-4FBE-8A09-292FBA8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DA8-9189-4E43-A31D-5CB045F2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AFB-A4CA-4126-8C9A-27BD92FB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6BF-F54E-41BB-908C-7D1B012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48C-9163-40DB-969A-41BACBC3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31C-E1C3-4E3E-8320-21720185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158-B9F7-4FCF-BDE3-745684A0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544-B85C-4195-83A5-BC64C0B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560-5399-4288-AD20-E43611B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9FD-DBA3-4358-AF74-A84C3D8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2DD-B3C4-49EE-87D8-57CF1E3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E56D-0F9B-43EE-8D9A-354BAB6267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500040" y="1714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500040" y="2286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500040" y="3429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500040" y="4000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500040" y="4572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500040" y="5143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500040" y="2857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500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50004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0004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0004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50004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50004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50004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500040" y="1500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500040" y="2071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5000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500040" y="3786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5000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500040" y="4929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5000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32:27Z</dcterms:modified>
  <cp:revision>784</cp:revision>
  <dc:subject/>
  <dc:title>Diapositiva 1</dc:title>
</cp:coreProperties>
</file>