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09A0-8811-4C68-AEFB-F9FC91AA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823E-1EC0-4C8F-AA4F-DE35CD21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21B4-0D9F-4B4F-B7A9-8C76C481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82CC-C03E-4B8A-B339-19B9A685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226-DBB4-47DD-96CA-16F49373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5663-1C11-4CDD-89CD-FEB99F93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200-EC52-46A9-BD24-F512E501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CFF5-B9B6-4135-9059-53558040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5576-DBB1-4EEA-B4F4-B615605B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A75E-8CD8-48FB-A3F4-983B3AEE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C70-B0F2-4C91-B753-D2227A40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88B6-916B-45E2-BA3E-F20B589D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000B-6A46-4569-BF2A-3A5E3058E49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08360" y="2130120"/>
            <a:ext cx="4749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4360" y="4653000"/>
            <a:ext cx="399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>Mariajose</dc:creator>
  <dc:description/>
  <dc:language>en-US</dc:language>
  <cp:lastModifiedBy>a</cp:lastModifiedBy>
  <dcterms:modified xsi:type="dcterms:W3CDTF">2009-10-08T06:49:50Z</dcterms:modified>
  <cp:revision>9</cp:revision>
  <dc:subject/>
  <dc:title>Title</dc:title>
</cp:coreProperties>
</file>