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44B-B10D-49E1-B4C3-5220E7C1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AA7-F716-4ED1-8528-22A1C9DA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986-9EB0-46BA-A6B4-20FF498F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FD1-F6BC-4E3B-AA76-692879A9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D4E-D15C-4268-9E99-80BA35B4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EF8-3873-439C-8BF6-5628CB4D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A7E-2615-46C0-8DDE-288B515F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D31-9AAD-46ED-BA2E-C247E7B2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BF0-1F74-482C-96BF-F9DEA298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909-B093-47EC-8076-D6109B69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E2F-2327-43FF-A0ED-E838EB6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486-6809-4F52-A89B-7EE93746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E01F-688A-4C8B-9572-AC41FD4B2F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91764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xplosion 1 5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xplosion 1 6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xplosion 1 7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9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10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11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rved Down Arrow 12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radan</cp:lastModifiedBy>
  <dcterms:modified xsi:type="dcterms:W3CDTF">2016-02-07T03:50:05Z</dcterms:modified>
  <cp:revision>6</cp:revision>
  <dc:subject/>
  <dc:title>TITLE</dc:title>
</cp:coreProperties>
</file>