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B9B-F04F-4EED-975A-5E5EAFC4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8C7-F50D-4916-82D8-3141463B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604-97AD-4541-9713-925E3FCE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3AC-AFA6-4A05-A51A-36C61B02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15C-767A-460B-8063-13693A42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DB2-2ED0-458D-B3ED-F3F1FAF5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83D-821B-4463-BF0F-85EFEA52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517-0D88-4804-8AE7-6C18C597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928-A8B2-4999-A0D4-97AAFCC3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BF8-7056-416B-B78C-C4406AD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B9E-696B-414F-88E7-6461F29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46F-3D44-4C02-9B17-3B0A4DF6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808C-80C3-457B-BC57-BDC456D02D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000" y="155700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5400" spc="-1" strike="noStrike">
                <a:solidFill>
                  <a:srgbClr val="336699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3"/>
          <p:cNvSpPr/>
          <p:nvPr/>
        </p:nvSpPr>
        <p:spPr>
          <a:xfrm>
            <a:off x="1692360" y="234936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336699"/>
                </a:solidFill>
                <a:latin typeface="Arial"/>
              </a:rPr>
              <a:t>Subheading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ube 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ube 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be 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be 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be 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be 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be 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be 1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1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1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9ed3d7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loud Callout 5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 Callout 6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 Callout 7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285840" y="2643120"/>
            <a:ext cx="171432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3286080" y="2643120"/>
            <a:ext cx="164304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6429240" y="2143080"/>
            <a:ext cx="2500560" cy="2571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us 8"/>
          <p:cNvSpPr/>
          <p:nvPr/>
        </p:nvSpPr>
        <p:spPr>
          <a:xfrm>
            <a:off x="2286000" y="3143160"/>
            <a:ext cx="928800" cy="642960"/>
          </a:xfrm>
          <a:custGeom>
            <a:avLst/>
            <a:gdLst/>
            <a:ahLst/>
            <a:rect l="l" t="t" r="r" b="b"/>
            <a:pathLst>
              <a:path w="928688" h="642938">
                <a:moveTo>
                  <a:pt x="123098" y="245859"/>
                </a:moveTo>
                <a:lnTo>
                  <a:pt x="388734" y="245859"/>
                </a:lnTo>
                <a:lnTo>
                  <a:pt x="388734" y="85221"/>
                </a:lnTo>
                <a:lnTo>
                  <a:pt x="539954" y="85221"/>
                </a:lnTo>
                <a:lnTo>
                  <a:pt x="539954" y="245859"/>
                </a:lnTo>
                <a:lnTo>
                  <a:pt x="805590" y="245859"/>
                </a:lnTo>
                <a:lnTo>
                  <a:pt x="805590" y="397079"/>
                </a:lnTo>
                <a:lnTo>
                  <a:pt x="539954" y="397079"/>
                </a:lnTo>
                <a:lnTo>
                  <a:pt x="539954" y="557717"/>
                </a:lnTo>
                <a:lnTo>
                  <a:pt x="388734" y="557717"/>
                </a:lnTo>
                <a:lnTo>
                  <a:pt x="388734" y="397079"/>
                </a:lnTo>
                <a:lnTo>
                  <a:pt x="123098" y="397079"/>
                </a:lnTo>
                <a:lnTo>
                  <a:pt x="123098" y="24585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qual 9"/>
          <p:cNvSpPr/>
          <p:nvPr/>
        </p:nvSpPr>
        <p:spPr>
          <a:xfrm>
            <a:off x="4929120" y="3000240"/>
            <a:ext cx="1571760" cy="1000440"/>
          </a:xfrm>
          <a:custGeom>
            <a:avLst/>
            <a:gdLst/>
            <a:ahLst/>
            <a:rect l="l" t="t" r="r" b="b"/>
            <a:pathLst>
              <a:path w="1571625" h="1000125">
                <a:moveTo>
                  <a:pt x="208319" y="206026"/>
                </a:moveTo>
                <a:lnTo>
                  <a:pt x="1363306" y="206026"/>
                </a:lnTo>
                <a:lnTo>
                  <a:pt x="1363306" y="441255"/>
                </a:lnTo>
                <a:lnTo>
                  <a:pt x="208319" y="441255"/>
                </a:lnTo>
                <a:lnTo>
                  <a:pt x="208319" y="206026"/>
                </a:lnTo>
                <a:close/>
                <a:moveTo>
                  <a:pt x="208319" y="558870"/>
                </a:moveTo>
                <a:lnTo>
                  <a:pt x="1363306" y="558870"/>
                </a:lnTo>
                <a:lnTo>
                  <a:pt x="1363306" y="794099"/>
                </a:lnTo>
                <a:lnTo>
                  <a:pt x="208319" y="794099"/>
                </a:lnTo>
                <a:lnTo>
                  <a:pt x="208319" y="55887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2-03T11:18:19Z</dcterms:modified>
  <cp:revision>579</cp:revision>
  <dc:subject/>
  <dc:title>Diapositiva 1</dc:title>
</cp:coreProperties>
</file>