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DF72-CCDA-4189-B9E2-F7E3B07D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03B-E3F5-48C3-93A2-906DE68E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886-4335-4AFF-A839-49019FDB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861-4E07-4368-9CB1-220B9678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01A-FA51-40D0-91D4-AB234541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8FD-DD5F-4A74-9051-4D589D9A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E11-B385-4BA0-9172-3F7E8745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8BD-6426-4B26-9B84-38EF829D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FBE-561A-4376-9D0B-C78F5C44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054-75F6-4710-82AC-5A5CC616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6E9-B4DF-4870-AA54-96628D70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2B0-628E-4813-85FC-8BB14387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0A54-E1AF-45E0-A3DD-C810B4CB28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loud Callout 5"/>
          <p:cNvSpPr/>
          <p:nvPr/>
        </p:nvSpPr>
        <p:spPr>
          <a:xfrm>
            <a:off x="611280" y="2708280"/>
            <a:ext cx="228600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loud Callout 6"/>
          <p:cNvSpPr/>
          <p:nvPr/>
        </p:nvSpPr>
        <p:spPr>
          <a:xfrm>
            <a:off x="3182760" y="1708200"/>
            <a:ext cx="242892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loud Callout 7"/>
          <p:cNvSpPr/>
          <p:nvPr/>
        </p:nvSpPr>
        <p:spPr>
          <a:xfrm>
            <a:off x="5826240" y="493560"/>
            <a:ext cx="3000240" cy="3357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539640" y="4994280"/>
            <a:ext cx="1500120" cy="1285920"/>
          </a:xfrm>
          <a:prstGeom prst="ellipse">
            <a:avLst/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9"/>
          <p:cNvSpPr/>
          <p:nvPr/>
        </p:nvSpPr>
        <p:spPr>
          <a:xfrm>
            <a:off x="5540400" y="4494240"/>
            <a:ext cx="1500120" cy="1285920"/>
          </a:xfrm>
          <a:prstGeom prst="ellipse">
            <a:avLst/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0"/>
          <p:cNvSpPr/>
          <p:nvPr/>
        </p:nvSpPr>
        <p:spPr>
          <a:xfrm>
            <a:off x="3040200" y="4708440"/>
            <a:ext cx="1500120" cy="1285920"/>
          </a:xfrm>
          <a:prstGeom prst="ellipse">
            <a:avLst/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be 6"/>
          <p:cNvSpPr/>
          <p:nvPr/>
        </p:nvSpPr>
        <p:spPr>
          <a:xfrm>
            <a:off x="30718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be 7"/>
          <p:cNvSpPr/>
          <p:nvPr/>
        </p:nvSpPr>
        <p:spPr>
          <a:xfrm>
            <a:off x="4286160" y="4786200"/>
            <a:ext cx="1357560" cy="1428840"/>
          </a:xfrm>
          <a:prstGeom prst="cube">
            <a:avLst>
              <a:gd name="adj" fmla="val 25000"/>
            </a:avLst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be 8"/>
          <p:cNvSpPr/>
          <p:nvPr/>
        </p:nvSpPr>
        <p:spPr>
          <a:xfrm>
            <a:off x="5214960" y="3357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be 9"/>
          <p:cNvSpPr/>
          <p:nvPr/>
        </p:nvSpPr>
        <p:spPr>
          <a:xfrm>
            <a:off x="17146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ube 10"/>
          <p:cNvSpPr/>
          <p:nvPr/>
        </p:nvSpPr>
        <p:spPr>
          <a:xfrm>
            <a:off x="3286080" y="2044800"/>
            <a:ext cx="1357200" cy="1428480"/>
          </a:xfrm>
          <a:prstGeom prst="cube">
            <a:avLst>
              <a:gd name="adj" fmla="val 25000"/>
            </a:avLst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be 11"/>
          <p:cNvSpPr/>
          <p:nvPr/>
        </p:nvSpPr>
        <p:spPr>
          <a:xfrm>
            <a:off x="3929040" y="3429000"/>
            <a:ext cx="1357200" cy="1428840"/>
          </a:xfrm>
          <a:prstGeom prst="cube">
            <a:avLst>
              <a:gd name="adj" fmla="val 25000"/>
            </a:avLst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be 12"/>
          <p:cNvSpPr/>
          <p:nvPr/>
        </p:nvSpPr>
        <p:spPr>
          <a:xfrm>
            <a:off x="5500800" y="4714920"/>
            <a:ext cx="1357200" cy="1428840"/>
          </a:xfrm>
          <a:prstGeom prst="cube">
            <a:avLst>
              <a:gd name="adj" fmla="val 25000"/>
            </a:avLst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ube 13"/>
          <p:cNvSpPr/>
          <p:nvPr/>
        </p:nvSpPr>
        <p:spPr>
          <a:xfrm>
            <a:off x="2571840" y="3500280"/>
            <a:ext cx="1357200" cy="1428840"/>
          </a:xfrm>
          <a:prstGeom prst="cube">
            <a:avLst>
              <a:gd name="adj" fmla="val 25000"/>
            </a:avLst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ube 14"/>
          <p:cNvSpPr/>
          <p:nvPr/>
        </p:nvSpPr>
        <p:spPr>
          <a:xfrm>
            <a:off x="4643280" y="2143080"/>
            <a:ext cx="1357560" cy="1428840"/>
          </a:xfrm>
          <a:prstGeom prst="cube">
            <a:avLst>
              <a:gd name="adj" fmla="val 25000"/>
            </a:avLst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be 15"/>
          <p:cNvSpPr/>
          <p:nvPr/>
        </p:nvSpPr>
        <p:spPr>
          <a:xfrm>
            <a:off x="4214880" y="1071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xplosion 1 5"/>
          <p:cNvSpPr/>
          <p:nvPr/>
        </p:nvSpPr>
        <p:spPr>
          <a:xfrm>
            <a:off x="357120" y="2571840"/>
            <a:ext cx="1928880" cy="2643120"/>
          </a:xfrm>
          <a:prstGeom prst="irregularSeal1">
            <a:avLst/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xplosion 1 6"/>
          <p:cNvSpPr/>
          <p:nvPr/>
        </p:nvSpPr>
        <p:spPr>
          <a:xfrm>
            <a:off x="3500280" y="214200"/>
            <a:ext cx="1928880" cy="2643480"/>
          </a:xfrm>
          <a:prstGeom prst="irregularSeal1">
            <a:avLst/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xplosion 1 7"/>
          <p:cNvSpPr/>
          <p:nvPr/>
        </p:nvSpPr>
        <p:spPr>
          <a:xfrm>
            <a:off x="6786720" y="2214720"/>
            <a:ext cx="1928520" cy="2643120"/>
          </a:xfrm>
          <a:prstGeom prst="irregularSeal1">
            <a:avLst/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3500280" y="4786200"/>
            <a:ext cx="2286000" cy="2071800"/>
          </a:xfrm>
          <a:prstGeom prst="ellipse">
            <a:avLst/>
          </a:pr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urved Down Arrow 9"/>
          <p:cNvSpPr/>
          <p:nvPr/>
        </p:nvSpPr>
        <p:spPr>
          <a:xfrm rot="13063800">
            <a:off x="1162080" y="5438520"/>
            <a:ext cx="2225520" cy="823680"/>
          </a:xfrm>
          <a:custGeom>
            <a:avLst/>
            <a:gdLst>
              <a:gd name="textAreaLeft" fmla="*/ 478800 w 2225520"/>
              <a:gd name="textAreaRight" fmla="*/ 1643400 w 2225520"/>
              <a:gd name="textAreaTop" fmla="*/ 110160 h 823680"/>
              <a:gd name="textAreaBottom" fmla="*/ 713520 h 82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00" hR="21600" stAng="10800000" swAng="5400000"/>
                <a:lnTo>
                  <a:pt x="11300" y="0"/>
                </a:lnTo>
                <a:arcTo wR="9300" hR="21600" stAng="-5400000" swAng="3542882"/>
                <a:lnTo>
                  <a:pt x="21305" y="16200"/>
                </a:lnTo>
                <a:lnTo>
                  <a:pt x="19599" y="21600"/>
                </a:lnTo>
                <a:lnTo>
                  <a:pt x="17303" y="16200"/>
                </a:lnTo>
                <a:lnTo>
                  <a:pt x="18304" y="16200"/>
                </a:lnTo>
                <a:arcTo wR="9300" hR="21600" stAng="-1857118" swAng="-3382915"/>
                <a:lnTo>
                  <a:pt x="10300" y="125"/>
                </a:lnTo>
                <a:arcTo wR="9300" hR="21600" stAng="-5559968" swAng="-5240032"/>
                <a:close/>
              </a:path>
              <a:path fill="darkenLess" w="21600" h="21600">
                <a:moveTo>
                  <a:pt x="0" y="21600"/>
                </a:moveTo>
                <a:arcTo wR="9300" hR="21600" stAng="10800000" swAng="5400000"/>
                <a:lnTo>
                  <a:pt x="9300" y="0"/>
                </a:lnTo>
                <a:arcTo wR="9300" hR="21600" stAng="-5400000" swAng="159968"/>
                <a:lnTo>
                  <a:pt x="10300" y="125"/>
                </a:lnTo>
                <a:arcTo wR="9300" hR="21600" stAng="-5559968" swAng="-5240032"/>
                <a:close/>
              </a:path>
            </a:pathLst>
          </a:cu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urved Down Arrow 10"/>
          <p:cNvSpPr/>
          <p:nvPr/>
        </p:nvSpPr>
        <p:spPr>
          <a:xfrm rot="8776800">
            <a:off x="5898600" y="5424120"/>
            <a:ext cx="2338200" cy="857160"/>
          </a:xfrm>
          <a:custGeom>
            <a:avLst/>
            <a:gdLst>
              <a:gd name="textAreaLeft" fmla="*/ 504000 w 2338200"/>
              <a:gd name="textAreaRight" fmla="*/ 1726920 w 23382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16" hR="21600" stAng="10800000" swAng="5400000"/>
                <a:lnTo>
                  <a:pt x="11295" y="0"/>
                </a:lnTo>
                <a:arcTo wR="9316" hR="21600" stAng="-5400000" swAng="3545488"/>
                <a:lnTo>
                  <a:pt x="21304" y="16200"/>
                </a:lnTo>
                <a:lnTo>
                  <a:pt x="19621" y="21600"/>
                </a:lnTo>
                <a:lnTo>
                  <a:pt x="17345" y="16200"/>
                </a:lnTo>
                <a:lnTo>
                  <a:pt x="18335" y="16200"/>
                </a:lnTo>
                <a:arcTo wR="9316" hR="21600" stAng="-1854512" swAng="-3387220"/>
                <a:lnTo>
                  <a:pt x="10305" y="122"/>
                </a:lnTo>
                <a:arcTo wR="9316" hR="21600" stAng="-5558268" swAng="-5241732"/>
                <a:close/>
              </a:path>
              <a:path fill="darkenLess" w="21600" h="21600">
                <a:moveTo>
                  <a:pt x="0" y="21600"/>
                </a:moveTo>
                <a:arcTo wR="9316" hR="21600" stAng="10800000" swAng="5400000"/>
                <a:lnTo>
                  <a:pt x="9316" y="0"/>
                </a:lnTo>
                <a:arcTo wR="9316" hR="21600" stAng="-5400000" swAng="158268"/>
                <a:lnTo>
                  <a:pt x="10305" y="122"/>
                </a:lnTo>
                <a:arcTo wR="9316" hR="21600" stAng="-5558268" swAng="-5241732"/>
                <a:close/>
              </a:path>
            </a:pathLst>
          </a:cu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urved Down Arrow 11"/>
          <p:cNvSpPr/>
          <p:nvPr/>
        </p:nvSpPr>
        <p:spPr>
          <a:xfrm rot="1555800">
            <a:off x="5573520" y="1168200"/>
            <a:ext cx="2271600" cy="857160"/>
          </a:xfrm>
          <a:custGeom>
            <a:avLst/>
            <a:gdLst>
              <a:gd name="textAreaLeft" fmla="*/ 487440 w 2271600"/>
              <a:gd name="textAreaRight" fmla="*/ 1677240 w 22716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2" hR="21600" stAng="10800000" swAng="5400000"/>
                <a:lnTo>
                  <a:pt x="11310" y="0"/>
                </a:lnTo>
                <a:arcTo wR="9272" hR="21600" stAng="-5400000" swAng="3538389"/>
                <a:lnTo>
                  <a:pt x="21306" y="16200"/>
                </a:lnTo>
                <a:lnTo>
                  <a:pt x="19563" y="21600"/>
                </a:lnTo>
                <a:lnTo>
                  <a:pt x="17232" y="16200"/>
                </a:lnTo>
                <a:lnTo>
                  <a:pt x="18250" y="16200"/>
                </a:lnTo>
                <a:arcTo wR="9272" hR="21600" stAng="-1861611" swAng="-3375344"/>
                <a:lnTo>
                  <a:pt x="10291" y="131"/>
                </a:lnTo>
                <a:arcTo wR="9272" hR="21600" stAng="-5563045" swAng="-5236955"/>
                <a:close/>
              </a:path>
              <a:path fill="darkenLess" w="21600" h="21600">
                <a:moveTo>
                  <a:pt x="0" y="21600"/>
                </a:moveTo>
                <a:arcTo wR="9272" hR="21600" stAng="10800000" swAng="5400000"/>
                <a:lnTo>
                  <a:pt x="9272" y="0"/>
                </a:lnTo>
                <a:arcTo wR="9272" hR="21600" stAng="-5400000" swAng="163045"/>
                <a:lnTo>
                  <a:pt x="10291" y="131"/>
                </a:lnTo>
                <a:arcTo wR="9272" hR="21600" stAng="-5563045" swAng="-5236955"/>
                <a:close/>
              </a:path>
            </a:pathLst>
          </a:cu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urved Down Arrow 12"/>
          <p:cNvSpPr/>
          <p:nvPr/>
        </p:nvSpPr>
        <p:spPr>
          <a:xfrm rot="19564800">
            <a:off x="1139760" y="1271160"/>
            <a:ext cx="2482920" cy="744480"/>
          </a:xfrm>
          <a:custGeom>
            <a:avLst/>
            <a:gdLst>
              <a:gd name="textAreaLeft" fmla="*/ 550800 w 2482920"/>
              <a:gd name="textAreaRight" fmla="*/ 1839240 w 2482920"/>
              <a:gd name="textAreaTop" fmla="*/ 99720 h 744480"/>
              <a:gd name="textAreaBottom" fmla="*/ 644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8" hR="21600" stAng="10800000" swAng="5400000"/>
                <a:lnTo>
                  <a:pt x="11205" y="0"/>
                </a:lnTo>
                <a:arcTo wR="9588" hR="21600" stAng="-5400000" swAng="3588794"/>
                <a:lnTo>
                  <a:pt x="21296" y="16200"/>
                </a:lnTo>
                <a:lnTo>
                  <a:pt x="19984" y="21600"/>
                </a:lnTo>
                <a:lnTo>
                  <a:pt x="18063" y="16200"/>
                </a:lnTo>
                <a:lnTo>
                  <a:pt x="18871" y="16200"/>
                </a:lnTo>
                <a:arcTo wR="9588" hR="21600" stAng="-1811206" swAng="-3459717"/>
                <a:lnTo>
                  <a:pt x="10396" y="77"/>
                </a:lnTo>
                <a:arcTo wR="9588" hR="21600" stAng="-5529076" swAng="-5270924"/>
                <a:close/>
              </a:path>
              <a:path fill="darkenLess" w="21600" h="21600">
                <a:moveTo>
                  <a:pt x="0" y="21600"/>
                </a:moveTo>
                <a:arcTo wR="9588" hR="21600" stAng="10800000" swAng="5400000"/>
                <a:lnTo>
                  <a:pt x="9588" y="0"/>
                </a:lnTo>
                <a:arcTo wR="9588" hR="21600" stAng="-5400000" swAng="129076"/>
                <a:lnTo>
                  <a:pt x="10396" y="77"/>
                </a:lnTo>
                <a:arcTo wR="9588" hR="21600" stAng="-5529076" swAng="-5270924"/>
                <a:close/>
              </a:path>
            </a:pathLst>
          </a:custGeom>
          <a:solidFill>
            <a:srgbClr val="7575d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07T03:48:44Z</dcterms:modified>
  <cp:revision>20</cp:revision>
  <dc:subject/>
  <dc:title>Diapositiva 1</dc:title>
</cp:coreProperties>
</file>