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E2B-4C00-4607-A3A5-6B442313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B7B-FDF1-4B21-9394-A0027F21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43F-FB0A-4C5D-819A-9B8AD49A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148-EEA9-454D-B62A-3AC4F6CB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B53-74C2-4DED-B512-2C37844B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352-12AB-43A7-B284-4AA935D4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04E-EA46-4E33-8661-9461A96E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B2B-FEC6-4250-9EF4-FE73DDCB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E18-9CF4-4912-B435-B176C384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F8E-88E6-439E-939E-355AE34A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7BF-3047-4EDD-9CB6-1AADB78A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0E1-A099-440E-BDAB-241AB7F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F775-7ACB-4B7A-A852-DDE93EB872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068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928960" y="5214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be 5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be 6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be 7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be 8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be 9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10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11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12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13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14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ction Button: Sound 3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4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 Callout 5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Callout 6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xplosion 1 3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xplosion 1 4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xplosion 1 5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rved Down Arrow 7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rved Down Arrow 8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urved Down Arrow 9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rved Down Arrow 10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44:23Z</dcterms:created>
  <dc:creator>Mariajose</dc:creator>
  <dc:description/>
  <dc:language>en-US</dc:language>
  <cp:lastModifiedBy>radan2</cp:lastModifiedBy>
  <dcterms:modified xsi:type="dcterms:W3CDTF">2016-02-02T13:52:19Z</dcterms:modified>
  <cp:revision>18</cp:revision>
  <dc:subject/>
  <dc:title>Texto</dc:title>
</cp:coreProperties>
</file>