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7DC-0CD9-4D53-8D01-810D68F7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8EC-7CD1-4B73-8192-004BCFC7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DB5-9221-41E1-B713-C9721ED8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744-99B6-40CD-A2D0-97113C01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5E9-D6E8-4CFF-9C20-B0E388F6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7CE-8876-48A9-B370-55207DF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C74-13E9-46D8-A483-C213003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911-C435-4E22-9276-D88895C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D42-97B0-4172-B3B8-F73242F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F05-1FF3-4983-AAF5-68D5737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AF1-CE7D-4959-AD23-5DF2A17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646-E7F7-4BDB-8489-CB99BB6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0510-9B18-4806-B08B-143F3B228B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9528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32:00Z</dcterms:modified>
  <cp:revision>199</cp:revision>
  <dc:subject/>
  <dc:title>Diapositiva 1</dc:title>
</cp:coreProperties>
</file>