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8900-5D27-472B-91C7-A0C88B1AE528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89B9-EAD1-4FE6-91AF-AC0F09417210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4BFC-9E73-4E22-9305-519B9BE8AEE4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C7E-E9B7-4F3C-8DA3-F30B5131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2BE-2BA9-4D08-89CC-94D485C1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DE5-69E8-40E0-B25D-3B09FBDF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A43-2976-4976-81CB-377900A4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B82-E193-40B5-B08F-4957E7E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672-25E5-4001-BA14-9C10BA69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66A-06C2-4ED2-8870-1BC3F30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E73-631F-4B6E-B6CF-9D880503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A58-2B5B-48E8-8A79-83BFF8EB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844-C4A7-43E9-A7D5-CD1E2244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806-0F92-4763-A5E8-F663C75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E1C6-6CC7-4A58-8772-724B53C3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764F-8881-43EC-9308-AE59FE5F13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lowchart: Magnetic Disk 3"/>
          <p:cNvSpPr/>
          <p:nvPr/>
        </p:nvSpPr>
        <p:spPr>
          <a:xfrm>
            <a:off x="1714680" y="4714920"/>
            <a:ext cx="1643040" cy="9288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lowchart: Magnetic Disk 4"/>
          <p:cNvSpPr/>
          <p:nvPr/>
        </p:nvSpPr>
        <p:spPr>
          <a:xfrm>
            <a:off x="6072120" y="1714680"/>
            <a:ext cx="1643040" cy="9284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owchart: Magnetic Disk 5"/>
          <p:cNvSpPr/>
          <p:nvPr/>
        </p:nvSpPr>
        <p:spPr>
          <a:xfrm>
            <a:off x="4929120" y="2500200"/>
            <a:ext cx="1643040" cy="9288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lowchart: Magnetic Disk 6"/>
          <p:cNvSpPr/>
          <p:nvPr/>
        </p:nvSpPr>
        <p:spPr>
          <a:xfrm>
            <a:off x="3857760" y="3357720"/>
            <a:ext cx="1643040" cy="9284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Magnetic Disk 7"/>
          <p:cNvSpPr/>
          <p:nvPr/>
        </p:nvSpPr>
        <p:spPr>
          <a:xfrm>
            <a:off x="2928960" y="4071960"/>
            <a:ext cx="1643040" cy="9288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ent Arrow 8"/>
          <p:cNvSpPr/>
          <p:nvPr/>
        </p:nvSpPr>
        <p:spPr>
          <a:xfrm>
            <a:off x="1928880" y="3786120"/>
            <a:ext cx="928800" cy="642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ent Arrow 9"/>
          <p:cNvSpPr/>
          <p:nvPr/>
        </p:nvSpPr>
        <p:spPr>
          <a:xfrm>
            <a:off x="3071880" y="3071880"/>
            <a:ext cx="928800" cy="642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ent Arrow 10"/>
          <p:cNvSpPr/>
          <p:nvPr/>
        </p:nvSpPr>
        <p:spPr>
          <a:xfrm>
            <a:off x="4214880" y="2214720"/>
            <a:ext cx="928800" cy="642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ent Arrow 11"/>
          <p:cNvSpPr/>
          <p:nvPr/>
        </p:nvSpPr>
        <p:spPr>
          <a:xfrm>
            <a:off x="5429160" y="1571760"/>
            <a:ext cx="928800" cy="642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761000" y="2786040"/>
            <a:ext cx="1758240" cy="31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Right Arrow 3"/>
          <p:cNvSpPr/>
          <p:nvPr/>
        </p:nvSpPr>
        <p:spPr>
          <a:xfrm>
            <a:off x="714240" y="15717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4"/>
          <p:cNvSpPr/>
          <p:nvPr/>
        </p:nvSpPr>
        <p:spPr>
          <a:xfrm>
            <a:off x="357120" y="42876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5"/>
          <p:cNvSpPr/>
          <p:nvPr/>
        </p:nvSpPr>
        <p:spPr>
          <a:xfrm>
            <a:off x="1000080" y="285768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6"/>
          <p:cNvSpPr/>
          <p:nvPr/>
        </p:nvSpPr>
        <p:spPr>
          <a:xfrm>
            <a:off x="1214280" y="40719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7"/>
          <p:cNvSpPr/>
          <p:nvPr/>
        </p:nvSpPr>
        <p:spPr>
          <a:xfrm>
            <a:off x="1857240" y="550080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643280" y="428760"/>
            <a:ext cx="2428920" cy="100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000760" y="1643040"/>
            <a:ext cx="2428920" cy="100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215040" y="5643720"/>
            <a:ext cx="2428920" cy="100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5572080" y="4143240"/>
            <a:ext cx="2428920" cy="100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5357880" y="2857680"/>
            <a:ext cx="2428920" cy="100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Flowchart: Delay 3"/>
          <p:cNvSpPr/>
          <p:nvPr/>
        </p:nvSpPr>
        <p:spPr>
          <a:xfrm rot="16200000">
            <a:off x="1964520" y="1607400"/>
            <a:ext cx="1285920" cy="1928880"/>
          </a:xfrm>
          <a:prstGeom prst="flowChartDelay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lowchart: Delay 4"/>
          <p:cNvSpPr/>
          <p:nvPr/>
        </p:nvSpPr>
        <p:spPr>
          <a:xfrm rot="16200000">
            <a:off x="4536360" y="1607400"/>
            <a:ext cx="1285920" cy="1928880"/>
          </a:xfrm>
          <a:prstGeom prst="flowChartDelay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owchart: Delay 5"/>
          <p:cNvSpPr/>
          <p:nvPr/>
        </p:nvSpPr>
        <p:spPr>
          <a:xfrm rot="16200000">
            <a:off x="6822360" y="1607400"/>
            <a:ext cx="1285920" cy="1928880"/>
          </a:xfrm>
          <a:prstGeom prst="flowChartDelay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lowchart: Process 6"/>
          <p:cNvSpPr/>
          <p:nvPr/>
        </p:nvSpPr>
        <p:spPr>
          <a:xfrm>
            <a:off x="1643040" y="3286080"/>
            <a:ext cx="1928880" cy="3571920"/>
          </a:xfrm>
          <a:prstGeom prst="flowChart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lowchart: Process 7"/>
          <p:cNvSpPr/>
          <p:nvPr/>
        </p:nvSpPr>
        <p:spPr>
          <a:xfrm>
            <a:off x="6500880" y="3286080"/>
            <a:ext cx="1928880" cy="3571920"/>
          </a:xfrm>
          <a:prstGeom prst="flowChart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lowchart: Process 8"/>
          <p:cNvSpPr/>
          <p:nvPr/>
        </p:nvSpPr>
        <p:spPr>
          <a:xfrm>
            <a:off x="4214880" y="3286080"/>
            <a:ext cx="1928880" cy="3571920"/>
          </a:xfrm>
          <a:prstGeom prst="flowChart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-Turn Arrow 9"/>
          <p:cNvSpPr/>
          <p:nvPr/>
        </p:nvSpPr>
        <p:spPr>
          <a:xfrm>
            <a:off x="3143160" y="571680"/>
            <a:ext cx="1571760" cy="1428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U-Turn Arrow 10"/>
          <p:cNvSpPr/>
          <p:nvPr/>
        </p:nvSpPr>
        <p:spPr>
          <a:xfrm>
            <a:off x="5857920" y="500040"/>
            <a:ext cx="1571760" cy="1428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2</cp:lastModifiedBy>
  <dcterms:modified xsi:type="dcterms:W3CDTF">2016-02-07T06:35:21Z</dcterms:modified>
  <cp:revision>63</cp:revision>
  <dc:subject/>
  <dc:title>TITLE</dc:title>
</cp:coreProperties>
</file>