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7F9-D237-4036-9573-73D5780E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13B-4493-4673-9426-3E261AAE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5AE-DC6F-4F17-AA10-9056DC28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F75-57AE-4E40-810D-FFB9447E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ED5-03E3-45E4-9F8C-823FE3E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9B9-90BD-42F9-84F9-55C20A1B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CEF-DBDD-4698-9422-20EE4C3B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38E-C69F-4494-B772-FE86BDF7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75A-D3C8-419B-86D2-0514BAAA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844-4521-476C-A4D5-850E0EF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8C1-2C20-4EDF-B054-721CCECF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716-1D74-435A-B579-0C756056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1AF1-AE68-4BEB-A64F-AC772A223E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19280" y="2707920"/>
            <a:ext cx="3745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9"/>
          <p:cNvSpPr/>
          <p:nvPr/>
        </p:nvSpPr>
        <p:spPr>
          <a:xfrm>
            <a:off x="5219640" y="3389400"/>
            <a:ext cx="31672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643040" y="47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lowchart: Extract 5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inus 6"/>
          <p:cNvSpPr/>
          <p:nvPr/>
        </p:nvSpPr>
        <p:spPr>
          <a:xfrm rot="319800">
            <a:off x="500040" y="3785760"/>
            <a:ext cx="8358120" cy="571680"/>
          </a:xfrm>
          <a:prstGeom prst="pi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8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9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0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1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2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3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 Callout 3"/>
          <p:cNvSpPr/>
          <p:nvPr/>
        </p:nvSpPr>
        <p:spPr>
          <a:xfrm>
            <a:off x="571680" y="2714760"/>
            <a:ext cx="2286000" cy="1928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 Callout 4"/>
          <p:cNvSpPr/>
          <p:nvPr/>
        </p:nvSpPr>
        <p:spPr>
          <a:xfrm>
            <a:off x="3143160" y="1714680"/>
            <a:ext cx="2428920" cy="2428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 Callout 5"/>
          <p:cNvSpPr/>
          <p:nvPr/>
        </p:nvSpPr>
        <p:spPr>
          <a:xfrm>
            <a:off x="5786280" y="500040"/>
            <a:ext cx="3000600" cy="3357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500040" y="5000760"/>
            <a:ext cx="150012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5500800" y="4500720"/>
            <a:ext cx="1500120" cy="1285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3000240" y="4714920"/>
            <a:ext cx="150048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4T16:43:00Z</dcterms:modified>
  <cp:revision>609</cp:revision>
  <dc:subject/>
  <dc:title>Diapositiva 1</dc:title>
</cp:coreProperties>
</file>