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8DA-1804-4BE6-B452-DEA40360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FA6-6A12-44FD-A9FF-2979FAE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D69-02EE-4AFF-B7F1-E10FC31E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74B-CB00-41C2-9319-1B5D7EB2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9E4-B9DC-4718-84A2-445FB4C3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C90-A342-44DC-A237-9689097C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86F-FDEF-4EA2-A460-688E5E88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BBB-6E85-4726-B9C5-4DA68425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461-CF07-4784-88BD-8CA8F02B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E4F-86FF-4E79-840C-16AC7943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476-9142-4FF5-A792-4F81ACB4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ED4-9C1F-4467-B62D-AE7BEF2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B39A-A6A2-40D2-90FB-D1343BF94C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85840" y="2643120"/>
            <a:ext cx="171432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3286080" y="2643120"/>
            <a:ext cx="164304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6429240" y="2143080"/>
            <a:ext cx="2500560" cy="2571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us 8"/>
          <p:cNvSpPr/>
          <p:nvPr/>
        </p:nvSpPr>
        <p:spPr>
          <a:xfrm>
            <a:off x="2286000" y="3143160"/>
            <a:ext cx="92880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qual 9"/>
          <p:cNvSpPr/>
          <p:nvPr/>
        </p:nvSpPr>
        <p:spPr>
          <a:xfrm>
            <a:off x="4929120" y="3000240"/>
            <a:ext cx="1571760" cy="10004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loud Callout 3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 Callout 4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 Callout 5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xplosion 1 3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xplosion 1 4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xplosion 1 5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rved Down Arrow 7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rved Down Arrow 8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rved Down Arrow 9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urved Down Arrow 10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ASUS</cp:lastModifiedBy>
  <dcterms:modified xsi:type="dcterms:W3CDTF">2016-02-05T17:00:03Z</dcterms:modified>
  <cp:revision>2</cp:revision>
  <dc:subject/>
  <dc:title>Diapositiva 1</dc:title>
</cp:coreProperties>
</file>