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14E7-0C9E-4065-823C-8AD9F1BD7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E728-C1D1-409E-9CC0-0810037D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644A-4CCE-4F91-AF9D-6AB627BAC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A557-301A-42B6-A5D8-22E789C72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7EF6-5D17-4063-BA24-2B4086EA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8AF0-45D4-46C7-B5EA-213FD149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0471-F3D4-4357-8858-4B04C836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B5DE-A317-4781-98E3-9FFABCEC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3826-7290-4879-9C37-35D3F062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738A-C297-4784-BB1D-5EC5DB46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A7F3-3059-492B-B2BF-15AA8DEB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BAD0-FB5E-477B-970F-6FB435D5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7C5A-6F62-4324-9CB4-C9E6C4F7B3C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1125360"/>
            <a:ext cx="511164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8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572000" y="5589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19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20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21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2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3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24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25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10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11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12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13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14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15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16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10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11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12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13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14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15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16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10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11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12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13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14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15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16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2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1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adan2</cp:lastModifiedBy>
  <dcterms:modified xsi:type="dcterms:W3CDTF">2016-02-11T10:34:39Z</dcterms:modified>
  <cp:revision>690</cp:revision>
  <dc:subject/>
  <dc:title>Diapositiva 1</dc:title>
</cp:coreProperties>
</file>