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E9B-BC60-45FC-B852-7023FEE9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764-CA91-4790-8FF0-B956337D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CB8-0B6B-4179-83DC-D5DD9406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576-16F1-45B7-859B-F72ED3CD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257-DE91-4985-984F-4F2ABC8C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32E-1C88-4E26-890C-FA05531D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0F4-681E-40B2-9C8D-C8943CEA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90F-7951-4A6A-A623-319FA8FF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810-6BF8-4A45-BDF9-5EBDE5E4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C19-72E1-4F96-80F4-0F7833A5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882-0258-46A3-9EF9-E2E83D25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DA9-1007-486C-8B05-3551C81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8800-D8C8-433D-8777-67CA1E84FB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803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57200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0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</cp:lastModifiedBy>
  <dcterms:modified xsi:type="dcterms:W3CDTF">2016-02-26T07:32:19Z</dcterms:modified>
  <cp:revision>42</cp:revision>
  <dc:subject/>
  <dc:title>TITLE</dc:title>
</cp:coreProperties>
</file>