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DEE-A8EF-426F-A9D9-0C965463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682-24B7-4D8D-8099-77036EE9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65A-D9E2-41C1-B096-338A701F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217-CA39-444A-A46F-8C551341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365-133C-458F-AF30-6FBACB8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81B-176A-40AC-8799-429D079D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A19-940E-4A32-823C-32FBA70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914-F808-4809-B31C-DDCE3FAB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243-7D9D-4276-9809-6C0F385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30B-C3C9-4954-AE5A-6B473E46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779-6E3E-4FC5-9DE0-BFD232C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BE2-4E71-4751-AC95-1E1CF95E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6974-57A6-4200-8038-43F4EE361A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90800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612720" y="3990960"/>
            <a:ext cx="785880" cy="9288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1469880" y="3705120"/>
            <a:ext cx="1071720" cy="128592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2612880" y="3562200"/>
            <a:ext cx="1357560" cy="15004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4113360" y="3205080"/>
            <a:ext cx="1785960" cy="19288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5970600" y="2919240"/>
            <a:ext cx="2357280" cy="235764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10"/>
          <p:cNvSpPr/>
          <p:nvPr/>
        </p:nvSpPr>
        <p:spPr>
          <a:xfrm rot="20983200">
            <a:off x="657360" y="2851200"/>
            <a:ext cx="7286400" cy="3571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Callout 3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Callout 4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Callout 5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Callout 6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inus 7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us 6"/>
          <p:cNvSpPr/>
          <p:nvPr/>
        </p:nvSpPr>
        <p:spPr>
          <a:xfrm>
            <a:off x="2286000" y="3143160"/>
            <a:ext cx="928800" cy="642960"/>
          </a:xfrm>
          <a:custGeom>
            <a:avLst/>
            <a:gdLst/>
            <a:ahLst/>
            <a:rect l="l" t="t" r="r" b="b"/>
            <a:pathLst>
              <a:path w="928694" h="642942">
                <a:moveTo>
                  <a:pt x="123098" y="245861"/>
                </a:moveTo>
                <a:lnTo>
                  <a:pt x="388737" y="245861"/>
                </a:lnTo>
                <a:lnTo>
                  <a:pt x="388737" y="85222"/>
                </a:lnTo>
                <a:lnTo>
                  <a:pt x="539957" y="85222"/>
                </a:lnTo>
                <a:lnTo>
                  <a:pt x="539957" y="245861"/>
                </a:lnTo>
                <a:lnTo>
                  <a:pt x="805596" y="245861"/>
                </a:lnTo>
                <a:lnTo>
                  <a:pt x="805596" y="397081"/>
                </a:lnTo>
                <a:lnTo>
                  <a:pt x="539957" y="397081"/>
                </a:lnTo>
                <a:lnTo>
                  <a:pt x="539957" y="557720"/>
                </a:lnTo>
                <a:lnTo>
                  <a:pt x="388737" y="557720"/>
                </a:lnTo>
                <a:lnTo>
                  <a:pt x="388737" y="397081"/>
                </a:lnTo>
                <a:lnTo>
                  <a:pt x="123098" y="397081"/>
                </a:lnTo>
                <a:lnTo>
                  <a:pt x="123098" y="245861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qual 7"/>
          <p:cNvSpPr/>
          <p:nvPr/>
        </p:nvSpPr>
        <p:spPr>
          <a:xfrm>
            <a:off x="4929120" y="3000240"/>
            <a:ext cx="1571760" cy="1000440"/>
          </a:xfrm>
          <a:custGeom>
            <a:avLst/>
            <a:gdLst/>
            <a:ahLst/>
            <a:rect l="l" t="t" r="r" b="b"/>
            <a:pathLst>
              <a:path w="1571636" h="1000132">
                <a:moveTo>
                  <a:pt x="208320" y="206027"/>
                </a:moveTo>
                <a:lnTo>
                  <a:pt x="1363316" y="206027"/>
                </a:lnTo>
                <a:lnTo>
                  <a:pt x="1363316" y="441258"/>
                </a:lnTo>
                <a:lnTo>
                  <a:pt x="208320" y="441258"/>
                </a:lnTo>
                <a:lnTo>
                  <a:pt x="208320" y="206027"/>
                </a:lnTo>
                <a:close/>
                <a:moveTo>
                  <a:pt x="208320" y="558874"/>
                </a:moveTo>
                <a:lnTo>
                  <a:pt x="1363316" y="558874"/>
                </a:lnTo>
                <a:lnTo>
                  <a:pt x="1363316" y="794105"/>
                </a:lnTo>
                <a:lnTo>
                  <a:pt x="208320" y="794105"/>
                </a:lnTo>
                <a:lnTo>
                  <a:pt x="208320" y="558874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</cp:lastModifiedBy>
  <dcterms:modified xsi:type="dcterms:W3CDTF">2016-02-07T03:42:52Z</dcterms:modified>
  <cp:revision>64</cp:revision>
  <dc:subject/>
  <dc:title>Texto</dc:title>
</cp:coreProperties>
</file>