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756-FED4-4D94-A7EF-DA53D37A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F75-C958-4CE4-869A-CFD166D3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235-CB76-4185-B77B-04BCE526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A1B-B8A7-4AE2-9875-42C48788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58C-3D21-4B42-BDEF-5A9E87D4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9A6-9035-4097-BB17-87195C0C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904-A120-453A-8D8E-3A265179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C52-2D0D-4AE5-9D6B-862DEFD3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177-470F-4531-A974-66EDFCE3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C86-410C-41F8-AE1B-A3CF56E2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DA53-08B4-40BA-9844-C26FDF5D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306-54F2-4CA4-BADE-5C362755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6210-E013-4D61-B92D-C25B3D0AC66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3640" y="2133360"/>
            <a:ext cx="5111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8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3564000" y="2781360"/>
            <a:ext cx="324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Your company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348000" y="393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2-11T10:18:53Z</dcterms:modified>
  <cp:revision>688</cp:revision>
  <dc:subject/>
  <dc:title>Diapositiva 1</dc:title>
</cp:coreProperties>
</file>