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B55-AD32-4F64-9A71-99447579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FBA-E952-47E2-9F40-B936216A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398-50FA-46CA-AF13-194E186F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DCD-A01D-4699-8D81-B7A5E66C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54D-9E92-454E-B4FF-77D56814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98C-73C6-4134-BFC7-7D66A566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9FC-0F4A-49AB-8046-B9A4BD71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0D8-78AD-4762-87E6-2376B0DB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AFC-0050-4756-999C-2B72D611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0FF-91FE-4BC1-A207-35BBCCC0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3E4-EC1F-4858-94C3-6CE723B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4EA-BD84-4AA2-9614-43783DA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A0BE-5A38-48CF-80AA-B432276157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1268280"/>
            <a:ext cx="5038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28760" y="4929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Callout 5"/>
          <p:cNvSpPr/>
          <p:nvPr/>
        </p:nvSpPr>
        <p:spPr>
          <a:xfrm rot="17934600">
            <a:off x="884880" y="3113280"/>
            <a:ext cx="1708200" cy="3030480"/>
          </a:xfrm>
          <a:prstGeom prst="wedgeEllipseCallout">
            <a:avLst>
              <a:gd name="adj1" fmla="val -13981"/>
              <a:gd name="adj2" fmla="val 62555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Callout 6"/>
          <p:cNvSpPr/>
          <p:nvPr/>
        </p:nvSpPr>
        <p:spPr>
          <a:xfrm rot="20491200">
            <a:off x="2733840" y="1716120"/>
            <a:ext cx="1641240" cy="3241800"/>
          </a:xfrm>
          <a:prstGeom prst="wedgeEllipseCallout">
            <a:avLst>
              <a:gd name="adj1" fmla="val -19152"/>
              <a:gd name="adj2" fmla="val 59953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Callout 7"/>
          <p:cNvSpPr/>
          <p:nvPr/>
        </p:nvSpPr>
        <p:spPr>
          <a:xfrm rot="775200">
            <a:off x="4687560" y="1794960"/>
            <a:ext cx="1714320" cy="3143520"/>
          </a:xfrm>
          <a:prstGeom prst="wedgeEllipseCallout">
            <a:avLst>
              <a:gd name="adj1" fmla="val -14300"/>
              <a:gd name="adj2" fmla="val 63578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Callout 8"/>
          <p:cNvSpPr/>
          <p:nvPr/>
        </p:nvSpPr>
        <p:spPr>
          <a:xfrm rot="2695200">
            <a:off x="6409800" y="2778120"/>
            <a:ext cx="2089440" cy="3643200"/>
          </a:xfrm>
          <a:prstGeom prst="wedgeEllipseCallout">
            <a:avLst>
              <a:gd name="adj1" fmla="val -26231"/>
              <a:gd name="adj2" fmla="val 60523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inus 9"/>
          <p:cNvSpPr/>
          <p:nvPr/>
        </p:nvSpPr>
        <p:spPr>
          <a:xfrm>
            <a:off x="3214800" y="5072040"/>
            <a:ext cx="2357280" cy="1428840"/>
          </a:xfrm>
          <a:prstGeom prst="pi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be 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be 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be 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be 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be 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be 1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be 1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be 1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xplosion 1 3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xplosion 1 4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xplosion 1 5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rved Down Arrow 7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880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0" hR="21600" stAng="10800000" swAng="5400000"/>
                <a:lnTo>
                  <a:pt x="11300" y="0"/>
                </a:lnTo>
                <a:arcTo wR="9300" hR="21600" stAng="-5400000" swAng="3542882"/>
                <a:lnTo>
                  <a:pt x="21305" y="16200"/>
                </a:lnTo>
                <a:lnTo>
                  <a:pt x="19599" y="21600"/>
                </a:lnTo>
                <a:lnTo>
                  <a:pt x="17303" y="16200"/>
                </a:lnTo>
                <a:lnTo>
                  <a:pt x="18304" y="16200"/>
                </a:lnTo>
                <a:arcTo wR="9300" hR="21600" stAng="-1857118" swAng="-3382915"/>
                <a:lnTo>
                  <a:pt x="10300" y="125"/>
                </a:lnTo>
                <a:arcTo wR="9300" hR="21600" stAng="-5559968" swAng="-5240032"/>
                <a:close/>
              </a:path>
              <a:path fill="darkenLess" w="21600" h="21600">
                <a:moveTo>
                  <a:pt x="0" y="21600"/>
                </a:moveTo>
                <a:arcTo wR="9300" hR="21600" stAng="10800000" swAng="5400000"/>
                <a:lnTo>
                  <a:pt x="9300" y="0"/>
                </a:lnTo>
                <a:arcTo wR="9300" hR="21600" stAng="-5400000" swAng="159968"/>
                <a:lnTo>
                  <a:pt x="10300" y="125"/>
                </a:lnTo>
                <a:arcTo wR="9300" hR="21600" stAng="-5559968" swAng="-5240032"/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urved Down Arrow 8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urved Down Arrow 9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724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10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2" y="16200"/>
                </a:lnTo>
                <a:lnTo>
                  <a:pt x="18250" y="16200"/>
                </a:lnTo>
                <a:arcTo wR="9272" hR="21600" stAng="-1861611" swAng="-3375344"/>
                <a:lnTo>
                  <a:pt x="10291" y="131"/>
                </a:lnTo>
                <a:arcTo wR="9272" hR="21600" stAng="-5563045" swAng="-5236955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3045"/>
                <a:lnTo>
                  <a:pt x="10291" y="131"/>
                </a:lnTo>
                <a:arcTo wR="9272" hR="21600" stAng="-5563045" swAng="-5236955"/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urved Down Arrow 10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924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8" hR="21600" stAng="10800000" swAng="5400000"/>
                <a:lnTo>
                  <a:pt x="11205" y="0"/>
                </a:lnTo>
                <a:arcTo wR="9588" hR="21600" stAng="-5400000" swAng="3588794"/>
                <a:lnTo>
                  <a:pt x="21296" y="16200"/>
                </a:lnTo>
                <a:lnTo>
                  <a:pt x="19984" y="21600"/>
                </a:lnTo>
                <a:lnTo>
                  <a:pt x="18063" y="16200"/>
                </a:lnTo>
                <a:lnTo>
                  <a:pt x="18871" y="16200"/>
                </a:lnTo>
                <a:arcTo wR="9588" hR="21600" stAng="-1811206" swAng="-3459717"/>
                <a:lnTo>
                  <a:pt x="10396" y="77"/>
                </a:lnTo>
                <a:arcTo wR="9588" hR="21600" stAng="-5529076" swAng="-5270924"/>
                <a:close/>
              </a:path>
              <a:path fill="darkenLess" w="21600" h="21600">
                <a:moveTo>
                  <a:pt x="0" y="21600"/>
                </a:moveTo>
                <a:arcTo wR="9588" hR="21600" stAng="10800000" swAng="5400000"/>
                <a:lnTo>
                  <a:pt x="9588" y="0"/>
                </a:lnTo>
                <a:arcTo wR="9588" hR="21600" stAng="-5400000" swAng="129076"/>
                <a:lnTo>
                  <a:pt x="10396" y="77"/>
                </a:lnTo>
                <a:arcTo wR="9588" hR="21600" stAng="-5529076" swAng="-5270924"/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SUS</cp:lastModifiedBy>
  <dcterms:modified xsi:type="dcterms:W3CDTF">2016-02-05T17:20:33Z</dcterms:modified>
  <cp:revision>13</cp:revision>
  <dc:subject/>
  <dc:title>TITLE</dc:title>
</cp:coreProperties>
</file>