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75B-20C3-4CD9-AD9E-67AB3781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D6A-AE1C-4C27-89BF-D6EE9F8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AED-9727-48C0-8C9C-1598EFF4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C93-8606-4828-B916-4A9E6CF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D02-7A13-4A0F-92CB-CBCF60C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44C-BFA5-4F85-87E0-1EB241D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3E6-0257-4685-A086-D7B70432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99F-2091-4E11-8483-227EC61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10A-CC4F-4593-BFA8-E4789CB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88A-8E2D-4A21-A511-1AB7FDC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90B-8D42-46B5-A0EB-D3C4F59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FF8-737E-4616-9740-2BDD06A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B77-5400-4D60-8E7C-22C5E49A0E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071720" y="5072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3"/>
          <p:cNvSpPr/>
          <p:nvPr/>
        </p:nvSpPr>
        <p:spPr>
          <a:xfrm>
            <a:off x="1119240" y="1446120"/>
            <a:ext cx="65656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4071960" y="150012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071960" y="264312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4143240" y="378612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4143240" y="4929120"/>
            <a:ext cx="785880" cy="1071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6286680" y="207180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1857240" y="207180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2"/>
          <p:cNvSpPr/>
          <p:nvPr/>
        </p:nvSpPr>
        <p:spPr>
          <a:xfrm flipV="1" rot="20424000">
            <a:off x="3074760" y="2215440"/>
            <a:ext cx="890280" cy="173160"/>
          </a:xfrm>
          <a:prstGeom prst="rightArrow">
            <a:avLst>
              <a:gd name="adj1" fmla="val 50000"/>
              <a:gd name="adj2" fmla="val 5024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13"/>
          <p:cNvSpPr/>
          <p:nvPr/>
        </p:nvSpPr>
        <p:spPr>
          <a:xfrm flipV="1">
            <a:off x="3071880" y="3142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4"/>
          <p:cNvSpPr/>
          <p:nvPr/>
        </p:nvSpPr>
        <p:spPr>
          <a:xfrm flipV="1">
            <a:off x="3143160" y="414252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5"/>
          <p:cNvSpPr/>
          <p:nvPr/>
        </p:nvSpPr>
        <p:spPr>
          <a:xfrm flipV="1">
            <a:off x="3143160" y="528552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16"/>
          <p:cNvSpPr/>
          <p:nvPr/>
        </p:nvSpPr>
        <p:spPr>
          <a:xfrm flipV="1">
            <a:off x="5072040" y="30711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7"/>
          <p:cNvSpPr/>
          <p:nvPr/>
        </p:nvSpPr>
        <p:spPr>
          <a:xfrm flipV="1">
            <a:off x="5072040" y="42141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18"/>
          <p:cNvSpPr/>
          <p:nvPr/>
        </p:nvSpPr>
        <p:spPr>
          <a:xfrm flipV="1">
            <a:off x="5143680" y="528552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19"/>
          <p:cNvSpPr/>
          <p:nvPr/>
        </p:nvSpPr>
        <p:spPr>
          <a:xfrm flipV="1" rot="525000">
            <a:off x="5008320" y="2066760"/>
            <a:ext cx="890640" cy="1749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inus 4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Callout 3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Callout 4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Callout 5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Callout 6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Minus 7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6-02-05T17:22:22Z</dcterms:modified>
  <cp:revision>216</cp:revision>
  <dc:subject/>
  <dc:title>Diapositiva 1</dc:title>
</cp:coreProperties>
</file>