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47C-75E8-40F7-9A33-EFFBA90B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35C-99F9-4565-827A-E35BC447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D7A-217E-45E6-82C9-74B82644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A49-08E6-475D-8390-AD54A25E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A0F-338C-492E-8BA6-30394B4F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C6B-C734-4E5C-B673-B87BF69E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0F6-3B4F-429E-8152-9C8578F6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BC3-6530-49C7-A7C1-A0E5EBBC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7A7-A05C-4F66-8E00-1212D8CE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085-1E18-4007-BCA0-F09E9DE2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1A9-5447-4DB3-9423-2FC5EF1C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D2A-E0AB-442F-AD49-F64B222C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6561-77DE-4FDD-BD06-B77EAA2DC1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700360" y="5589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Callout 5"/>
          <p:cNvSpPr/>
          <p:nvPr/>
        </p:nvSpPr>
        <p:spPr>
          <a:xfrm rot="17934600">
            <a:off x="884880" y="3113280"/>
            <a:ext cx="1708200" cy="3030480"/>
          </a:xfrm>
          <a:prstGeom prst="wedgeEllipseCallout">
            <a:avLst>
              <a:gd name="adj1" fmla="val -13981"/>
              <a:gd name="adj2" fmla="val 62555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Callout 6"/>
          <p:cNvSpPr/>
          <p:nvPr/>
        </p:nvSpPr>
        <p:spPr>
          <a:xfrm rot="20491200">
            <a:off x="2733840" y="1716120"/>
            <a:ext cx="1641240" cy="3241800"/>
          </a:xfrm>
          <a:prstGeom prst="wedgeEllipseCallout">
            <a:avLst>
              <a:gd name="adj1" fmla="val -19152"/>
              <a:gd name="adj2" fmla="val 59953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Callout 7"/>
          <p:cNvSpPr/>
          <p:nvPr/>
        </p:nvSpPr>
        <p:spPr>
          <a:xfrm rot="775200">
            <a:off x="4687560" y="1794960"/>
            <a:ext cx="1714320" cy="3143520"/>
          </a:xfrm>
          <a:prstGeom prst="wedgeEllipseCallout">
            <a:avLst>
              <a:gd name="adj1" fmla="val -14300"/>
              <a:gd name="adj2" fmla="val 63578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Callout 8"/>
          <p:cNvSpPr/>
          <p:nvPr/>
        </p:nvSpPr>
        <p:spPr>
          <a:xfrm rot="2695200">
            <a:off x="6409800" y="2778120"/>
            <a:ext cx="2089440" cy="3643200"/>
          </a:xfrm>
          <a:prstGeom prst="wedgeEllipseCallout">
            <a:avLst>
              <a:gd name="adj1" fmla="val -26231"/>
              <a:gd name="adj2" fmla="val 60523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inus 9"/>
          <p:cNvSpPr/>
          <p:nvPr/>
        </p:nvSpPr>
        <p:spPr>
          <a:xfrm>
            <a:off x="3214800" y="5072040"/>
            <a:ext cx="2357280" cy="1428840"/>
          </a:xfrm>
          <a:prstGeom prst="pie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be 3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4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be 5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be 6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be 7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ube 8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be 9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be 10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be 11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be 12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xplosion 1 3"/>
          <p:cNvSpPr/>
          <p:nvPr/>
        </p:nvSpPr>
        <p:spPr>
          <a:xfrm>
            <a:off x="357120" y="2571840"/>
            <a:ext cx="1928880" cy="2643120"/>
          </a:xfrm>
          <a:prstGeom prst="irregularSeal1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xplosion 1 4"/>
          <p:cNvSpPr/>
          <p:nvPr/>
        </p:nvSpPr>
        <p:spPr>
          <a:xfrm>
            <a:off x="3500280" y="214200"/>
            <a:ext cx="1928880" cy="2643480"/>
          </a:xfrm>
          <a:prstGeom prst="irregularSeal1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xplosion 1 5"/>
          <p:cNvSpPr/>
          <p:nvPr/>
        </p:nvSpPr>
        <p:spPr>
          <a:xfrm>
            <a:off x="6786720" y="2214720"/>
            <a:ext cx="1928520" cy="2643120"/>
          </a:xfrm>
          <a:prstGeom prst="irregularSeal1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500280" y="4786200"/>
            <a:ext cx="2286000" cy="207180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rved Down Arrow 7"/>
          <p:cNvSpPr/>
          <p:nvPr/>
        </p:nvSpPr>
        <p:spPr>
          <a:xfrm rot="13063800">
            <a:off x="1162080" y="5438520"/>
            <a:ext cx="2225520" cy="823680"/>
          </a:xfrm>
          <a:custGeom>
            <a:avLst/>
            <a:gdLst>
              <a:gd name="textAreaLeft" fmla="*/ 478800 w 2225520"/>
              <a:gd name="textAreaRight" fmla="*/ 1643400 w 2225520"/>
              <a:gd name="textAreaTop" fmla="*/ 110160 h 823680"/>
              <a:gd name="textAreaBottom" fmla="*/ 71352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0" hR="21600" stAng="10800000" swAng="5400000"/>
                <a:lnTo>
                  <a:pt x="11300" y="0"/>
                </a:lnTo>
                <a:arcTo wR="9300" hR="21600" stAng="-5400000" swAng="3542882"/>
                <a:lnTo>
                  <a:pt x="21305" y="16200"/>
                </a:lnTo>
                <a:lnTo>
                  <a:pt x="19599" y="21600"/>
                </a:lnTo>
                <a:lnTo>
                  <a:pt x="17303" y="16200"/>
                </a:lnTo>
                <a:lnTo>
                  <a:pt x="18304" y="16200"/>
                </a:lnTo>
                <a:arcTo wR="9300" hR="21600" stAng="-1857118" swAng="-3382915"/>
                <a:lnTo>
                  <a:pt x="10300" y="125"/>
                </a:lnTo>
                <a:arcTo wR="9300" hR="21600" stAng="-5559968" swAng="-5240032"/>
                <a:close/>
              </a:path>
              <a:path fill="darkenLess" w="21600" h="21600">
                <a:moveTo>
                  <a:pt x="0" y="21600"/>
                </a:moveTo>
                <a:arcTo wR="9300" hR="21600" stAng="10800000" swAng="5400000"/>
                <a:lnTo>
                  <a:pt x="9300" y="0"/>
                </a:lnTo>
                <a:arcTo wR="9300" hR="21600" stAng="-5400000" swAng="159968"/>
                <a:lnTo>
                  <a:pt x="10300" y="125"/>
                </a:lnTo>
                <a:arcTo wR="9300" hR="21600" stAng="-5559968" swAng="-5240032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urved Down Arrow 8"/>
          <p:cNvSpPr/>
          <p:nvPr/>
        </p:nvSpPr>
        <p:spPr>
          <a:xfrm rot="8776800">
            <a:off x="5898600" y="5424120"/>
            <a:ext cx="2338200" cy="857160"/>
          </a:xfrm>
          <a:custGeom>
            <a:avLst/>
            <a:gdLst>
              <a:gd name="textAreaLeft" fmla="*/ 504000 w 2338200"/>
              <a:gd name="textAreaRight" fmla="*/ 1726920 w 23382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16" hR="21600" stAng="10800000" swAng="5400000"/>
                <a:lnTo>
                  <a:pt x="11295" y="0"/>
                </a:lnTo>
                <a:arcTo wR="9316" hR="21600" stAng="-5400000" swAng="3545488"/>
                <a:lnTo>
                  <a:pt x="21304" y="16200"/>
                </a:lnTo>
                <a:lnTo>
                  <a:pt x="19621" y="21600"/>
                </a:lnTo>
                <a:lnTo>
                  <a:pt x="17345" y="16200"/>
                </a:lnTo>
                <a:lnTo>
                  <a:pt x="18335" y="16200"/>
                </a:lnTo>
                <a:arcTo wR="9316" hR="21600" stAng="-1854512" swAng="-3387220"/>
                <a:lnTo>
                  <a:pt x="10305" y="122"/>
                </a:lnTo>
                <a:arcTo wR="9316" hR="21600" stAng="-5558268" swAng="-5241732"/>
                <a:close/>
              </a:path>
              <a:path fill="darkenLess" w="21600" h="21600">
                <a:moveTo>
                  <a:pt x="0" y="21600"/>
                </a:moveTo>
                <a:arcTo wR="9316" hR="21600" stAng="10800000" swAng="5400000"/>
                <a:lnTo>
                  <a:pt x="9316" y="0"/>
                </a:lnTo>
                <a:arcTo wR="9316" hR="21600" stAng="-5400000" swAng="158268"/>
                <a:lnTo>
                  <a:pt x="10305" y="122"/>
                </a:lnTo>
                <a:arcTo wR="9316" hR="21600" stAng="-5558268" swAng="-5241732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urved Down Arrow 9"/>
          <p:cNvSpPr/>
          <p:nvPr/>
        </p:nvSpPr>
        <p:spPr>
          <a:xfrm rot="1555800">
            <a:off x="5573520" y="1168200"/>
            <a:ext cx="2271600" cy="857160"/>
          </a:xfrm>
          <a:custGeom>
            <a:avLst/>
            <a:gdLst>
              <a:gd name="textAreaLeft" fmla="*/ 487440 w 2271600"/>
              <a:gd name="textAreaRight" fmla="*/ 1677240 w 22716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10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2" y="16200"/>
                </a:lnTo>
                <a:lnTo>
                  <a:pt x="18250" y="16200"/>
                </a:lnTo>
                <a:arcTo wR="9272" hR="21600" stAng="-1861611" swAng="-3375344"/>
                <a:lnTo>
                  <a:pt x="10291" y="131"/>
                </a:lnTo>
                <a:arcTo wR="9272" hR="21600" stAng="-5563045" swAng="-5236955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3045"/>
                <a:lnTo>
                  <a:pt x="10291" y="131"/>
                </a:lnTo>
                <a:arcTo wR="9272" hR="21600" stAng="-5563045" swAng="-5236955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urved Down Arrow 10"/>
          <p:cNvSpPr/>
          <p:nvPr/>
        </p:nvSpPr>
        <p:spPr>
          <a:xfrm rot="19564800">
            <a:off x="1139760" y="1271160"/>
            <a:ext cx="2482920" cy="744480"/>
          </a:xfrm>
          <a:custGeom>
            <a:avLst/>
            <a:gdLst>
              <a:gd name="textAreaLeft" fmla="*/ 550800 w 2482920"/>
              <a:gd name="textAreaRight" fmla="*/ 1839240 w 24829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8" hR="21600" stAng="10800000" swAng="5400000"/>
                <a:lnTo>
                  <a:pt x="11205" y="0"/>
                </a:lnTo>
                <a:arcTo wR="9588" hR="21600" stAng="-5400000" swAng="3588794"/>
                <a:lnTo>
                  <a:pt x="21296" y="16200"/>
                </a:lnTo>
                <a:lnTo>
                  <a:pt x="19984" y="21600"/>
                </a:lnTo>
                <a:lnTo>
                  <a:pt x="18063" y="16200"/>
                </a:lnTo>
                <a:lnTo>
                  <a:pt x="18871" y="16200"/>
                </a:lnTo>
                <a:arcTo wR="9588" hR="21600" stAng="-1811206" swAng="-3459717"/>
                <a:lnTo>
                  <a:pt x="10396" y="77"/>
                </a:lnTo>
                <a:arcTo wR="9588" hR="21600" stAng="-5529076" swAng="-5270924"/>
                <a:close/>
              </a:path>
              <a:path fill="darkenLess" w="21600" h="21600">
                <a:moveTo>
                  <a:pt x="0" y="21600"/>
                </a:moveTo>
                <a:arcTo wR="9588" hR="21600" stAng="10800000" swAng="5400000"/>
                <a:lnTo>
                  <a:pt x="9588" y="0"/>
                </a:lnTo>
                <a:arcTo wR="9588" hR="21600" stAng="-5400000" swAng="129076"/>
                <a:lnTo>
                  <a:pt x="10396" y="77"/>
                </a:lnTo>
                <a:arcTo wR="9588" hR="21600" stAng="-5529076" swAng="-5270924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07T03:41:25Z</dcterms:modified>
  <cp:revision>202</cp:revision>
  <dc:subject/>
  <dc:title>Diapositiva 1</dc:title>
</cp:coreProperties>
</file>