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FAD-5106-4B8B-B4B1-7C55A599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EC7-ADC9-4374-80B7-4F8366FB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9CD-6E09-4FD6-A3CB-388C0EF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FDA-D82C-4274-B6BD-DF5B0A0E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E94-E7BA-4374-8F97-EB255285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F1B-7E6D-42DE-81C2-BE741D40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B2F-DF33-4EDE-8C59-0A3C710D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20C-018A-41F4-BC58-166D556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ECB-0B80-45E8-85BE-0AD8F84F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790-614B-4B94-91FF-95CDEB37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F7C-20E0-45B9-9E6A-36B8F36B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8B4-583E-443B-913F-F455C90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8C5-1599-48AF-BA23-D4828E7C4A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7760" y="5428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3460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8642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20920" y="2403360"/>
            <a:ext cx="1928880" cy="1285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606920" y="3903840"/>
            <a:ext cx="1928880" cy="1285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320920" y="3903840"/>
            <a:ext cx="1928880" cy="1285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678200" y="2117880"/>
            <a:ext cx="1928880" cy="1285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9"/>
          <p:cNvSpPr/>
          <p:nvPr/>
        </p:nvSpPr>
        <p:spPr>
          <a:xfrm>
            <a:off x="3963960" y="1189080"/>
            <a:ext cx="1428840" cy="785880"/>
          </a:xfrm>
          <a:custGeom>
            <a:avLst/>
            <a:gdLst>
              <a:gd name="textAreaLeft" fmla="*/ 283320 w 1428840"/>
              <a:gd name="textAreaRight" fmla="*/ 1047240 w 14288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3" hR="21600" stAng="10800000" swAng="5400000"/>
                <a:lnTo>
                  <a:pt x="11543" y="0"/>
                </a:lnTo>
                <a:arcTo wR="8573" hR="21600" stAng="-5400000" swAng="3417167"/>
                <a:lnTo>
                  <a:pt x="21328" y="16200"/>
                </a:lnTo>
                <a:lnTo>
                  <a:pt x="18630" y="21600"/>
                </a:lnTo>
                <a:lnTo>
                  <a:pt x="15388" y="16200"/>
                </a:lnTo>
                <a:lnTo>
                  <a:pt x="16873" y="16200"/>
                </a:lnTo>
                <a:arcTo wR="8573" hR="21600" stAng="-1982833" swAng="-3177582"/>
                <a:lnTo>
                  <a:pt x="10058" y="327"/>
                </a:lnTo>
                <a:arcTo wR="8573" hR="21600" stAng="-5639584" swAng="-5160416"/>
                <a:close/>
              </a:path>
              <a:path fill="darkenLess" w="21600" h="21600">
                <a:moveTo>
                  <a:pt x="0" y="21600"/>
                </a:moveTo>
                <a:arcTo wR="8573" hR="21600" stAng="10800000" swAng="5400000"/>
                <a:lnTo>
                  <a:pt x="8573" y="0"/>
                </a:lnTo>
                <a:arcTo wR="8573" hR="21600" stAng="-5400000" swAng="239584"/>
                <a:lnTo>
                  <a:pt x="10058" y="327"/>
                </a:lnTo>
                <a:arcTo wR="8573" hR="21600" stAng="-5639584" swAng="-5160416"/>
                <a:close/>
              </a:path>
            </a:pathLst>
          </a:custGeom>
          <a:solidFill>
            <a:srgbClr val="c000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Left Arrow 10"/>
          <p:cNvSpPr/>
          <p:nvPr/>
        </p:nvSpPr>
        <p:spPr>
          <a:xfrm>
            <a:off x="6750000" y="2832120"/>
            <a:ext cx="714600" cy="1714320"/>
          </a:xfrm>
          <a:custGeom>
            <a:avLst/>
            <a:gdLst>
              <a:gd name="textAreaLeft" fmla="*/ 95760 w 714600"/>
              <a:gd name="textAreaRight" fmla="*/ 618840 w 714600"/>
              <a:gd name="textAreaTop" fmla="*/ 361440 h 1714320"/>
              <a:gd name="textAreaBottom" fmla="*/ 126360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3511935"/>
                <a:lnTo>
                  <a:pt x="5400" y="21311"/>
                </a:lnTo>
                <a:lnTo>
                  <a:pt x="0" y="19350"/>
                </a:lnTo>
                <a:lnTo>
                  <a:pt x="5400" y="16811"/>
                </a:lnTo>
                <a:lnTo>
                  <a:pt x="5400" y="17936"/>
                </a:lnTo>
                <a:arcTo wR="21600" hR="9113" stAng="3511935" swAng="-3331670"/>
                <a:lnTo>
                  <a:pt x="21435" y="10238"/>
                </a:lnTo>
                <a:arcTo wR="21600" hR="9113" stAng="-180264" swAng="-5219736"/>
                <a:close/>
              </a:path>
              <a:path fill="darkenLess" w="21600" h="21600">
                <a:moveTo>
                  <a:pt x="0" y="0"/>
                </a:moveTo>
                <a:arcTo wR="21600" hR="9113" stAng="-5400000" swAng="5400000"/>
                <a:lnTo>
                  <a:pt x="21600" y="11363"/>
                </a:lnTo>
                <a:arcTo wR="21600" hR="9113" stAng="0" swAng="-180264"/>
                <a:lnTo>
                  <a:pt x="21435" y="10238"/>
                </a:lnTo>
                <a:arcTo wR="21600" hR="9113" stAng="-180264" swAng="-5219736"/>
                <a:close/>
              </a:path>
            </a:pathLst>
          </a:custGeom>
          <a:solidFill>
            <a:srgbClr val="c000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Magnetic Disk 5"/>
          <p:cNvSpPr/>
          <p:nvPr/>
        </p:nvSpPr>
        <p:spPr>
          <a:xfrm>
            <a:off x="4929120" y="5000760"/>
            <a:ext cx="2643120" cy="1428480"/>
          </a:xfrm>
          <a:prstGeom prst="flowChartMagneticDisk">
            <a:avLst/>
          </a:prstGeom>
          <a:solidFill>
            <a:srgbClr val="c00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Magnetic Disk 6"/>
          <p:cNvSpPr/>
          <p:nvPr/>
        </p:nvSpPr>
        <p:spPr>
          <a:xfrm>
            <a:off x="4857840" y="714240"/>
            <a:ext cx="1785960" cy="1000440"/>
          </a:xfrm>
          <a:prstGeom prst="flowChartMagneticDisk">
            <a:avLst/>
          </a:prstGeom>
          <a:solidFill>
            <a:srgbClr val="c00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owchart: Magnetic Disk 7"/>
          <p:cNvSpPr/>
          <p:nvPr/>
        </p:nvSpPr>
        <p:spPr>
          <a:xfrm>
            <a:off x="3786120" y="2143080"/>
            <a:ext cx="1785960" cy="857160"/>
          </a:xfrm>
          <a:prstGeom prst="flowChartMagneticDisk">
            <a:avLst/>
          </a:prstGeom>
          <a:solidFill>
            <a:srgbClr val="c00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Magnetic Disk 8"/>
          <p:cNvSpPr/>
          <p:nvPr/>
        </p:nvSpPr>
        <p:spPr>
          <a:xfrm>
            <a:off x="7072200" y="2214720"/>
            <a:ext cx="1714680" cy="1143000"/>
          </a:xfrm>
          <a:prstGeom prst="flowChartMagneticDisk">
            <a:avLst/>
          </a:prstGeom>
          <a:solidFill>
            <a:srgbClr val="c000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9"/>
          <p:cNvSpPr/>
          <p:nvPr/>
        </p:nvSpPr>
        <p:spPr>
          <a:xfrm>
            <a:off x="7286760" y="4786200"/>
            <a:ext cx="7128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Up Arrow 10"/>
          <p:cNvSpPr/>
          <p:nvPr/>
        </p:nvSpPr>
        <p:spPr>
          <a:xfrm>
            <a:off x="7072200" y="3429000"/>
            <a:ext cx="285840" cy="142884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Up Arrow 11"/>
          <p:cNvSpPr/>
          <p:nvPr/>
        </p:nvSpPr>
        <p:spPr>
          <a:xfrm>
            <a:off x="5072040" y="3429000"/>
            <a:ext cx="214200" cy="142884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Up Arrow 12"/>
          <p:cNvSpPr/>
          <p:nvPr/>
        </p:nvSpPr>
        <p:spPr>
          <a:xfrm>
            <a:off x="5857920" y="1928880"/>
            <a:ext cx="214200" cy="28573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3" descr=""/>
          <p:cNvPicPr/>
          <p:nvPr/>
        </p:nvPicPr>
        <p:blipFill>
          <a:blip r:embed="rId1"/>
          <a:stretch/>
        </p:blipFill>
        <p:spPr>
          <a:xfrm>
            <a:off x="811080" y="3816360"/>
            <a:ext cx="29689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0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Connector 3"/>
          <p:cNvSpPr/>
          <p:nvPr/>
        </p:nvSpPr>
        <p:spPr>
          <a:xfrm>
            <a:off x="2043000" y="2500200"/>
            <a:ext cx="1071720" cy="107172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Connector 4"/>
          <p:cNvSpPr/>
          <p:nvPr/>
        </p:nvSpPr>
        <p:spPr>
          <a:xfrm>
            <a:off x="2114640" y="4857840"/>
            <a:ext cx="1071360" cy="107136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owchart: Connector 5"/>
          <p:cNvSpPr/>
          <p:nvPr/>
        </p:nvSpPr>
        <p:spPr>
          <a:xfrm>
            <a:off x="2043000" y="3643200"/>
            <a:ext cx="1071720" cy="107172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inus 6"/>
          <p:cNvSpPr/>
          <p:nvPr/>
        </p:nvSpPr>
        <p:spPr>
          <a:xfrm>
            <a:off x="2328840" y="2857680"/>
            <a:ext cx="6072120" cy="6426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Minus 7"/>
          <p:cNvSpPr/>
          <p:nvPr/>
        </p:nvSpPr>
        <p:spPr>
          <a:xfrm>
            <a:off x="2328840" y="3929040"/>
            <a:ext cx="6072120" cy="6429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inus 8"/>
          <p:cNvSpPr/>
          <p:nvPr/>
        </p:nvSpPr>
        <p:spPr>
          <a:xfrm>
            <a:off x="2400480" y="5072040"/>
            <a:ext cx="6072120" cy="6429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Bevel 9"/>
          <p:cNvSpPr/>
          <p:nvPr/>
        </p:nvSpPr>
        <p:spPr>
          <a:xfrm>
            <a:off x="3257640" y="1071720"/>
            <a:ext cx="4143240" cy="1357200"/>
          </a:xfrm>
          <a:prstGeom prst="bevel">
            <a:avLst>
              <a:gd name="adj" fmla="val 125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189680" y="2643120"/>
            <a:ext cx="1758240" cy="313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160880" y="3714840"/>
            <a:ext cx="1758240" cy="313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4160880" y="4786200"/>
            <a:ext cx="1758240" cy="313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2-07T06:25:33Z</dcterms:modified>
  <cp:revision>52</cp:revision>
  <dc:subject/>
  <dc:title>Texto</dc:title>
</cp:coreProperties>
</file>