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79A-298A-4CC7-AECD-C436659E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A856-CFC5-4FEC-833E-404E2B2F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093-6F8F-4BDE-9630-17435770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D0C-4198-4665-8FD2-9106495B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432-2E48-45B1-B128-8BC3CE46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DD0-C7D0-4872-A077-C40F3F47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A23-E125-480A-BD21-7DA5CECB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DD0-3048-4682-93BB-0AFE2E81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68F-976A-40A8-B9A5-F0AA0DBE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9EC-9A4D-459A-8E50-112C95B1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632-3918-4F43-A26D-B098193A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EF5-B691-42CD-80E7-269FF89D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E217-F0D2-45EF-97E7-A61CDF75BC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06828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643040" y="564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be 5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ube 6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be 7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be 8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be 9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be 10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be 11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12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be 13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be 14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 Callout 3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 Callout 4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 Callout 5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8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lowchart: Extract 3"/>
          <p:cNvSpPr/>
          <p:nvPr/>
        </p:nvSpPr>
        <p:spPr>
          <a:xfrm>
            <a:off x="3357720" y="4214880"/>
            <a:ext cx="2286000" cy="1643040"/>
          </a:xfrm>
          <a:prstGeom prst="flowChartExtra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inus 4"/>
          <p:cNvSpPr/>
          <p:nvPr/>
        </p:nvSpPr>
        <p:spPr>
          <a:xfrm rot="319800">
            <a:off x="500040" y="3785760"/>
            <a:ext cx="8358120" cy="571680"/>
          </a:xfrm>
          <a:prstGeom prst="pi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 rot="412200">
            <a:off x="1714680" y="321444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 rot="412200">
            <a:off x="180180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 rot="412200">
            <a:off x="1873080" y="2222280"/>
            <a:ext cx="135756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 rot="412200">
            <a:off x="6373800" y="222228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 rot="412200">
            <a:off x="630252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10"/>
          <p:cNvSpPr/>
          <p:nvPr/>
        </p:nvSpPr>
        <p:spPr>
          <a:xfrm rot="412200">
            <a:off x="6230880" y="32223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1"/>
          <p:cNvSpPr/>
          <p:nvPr/>
        </p:nvSpPr>
        <p:spPr>
          <a:xfrm rot="412200">
            <a:off x="6159600" y="372240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44:23Z</dcterms:created>
  <dc:creator>Mariajose</dc:creator>
  <dc:description/>
  <dc:language>en-US</dc:language>
  <cp:lastModifiedBy>radan2</cp:lastModifiedBy>
  <dcterms:modified xsi:type="dcterms:W3CDTF">2016-02-14T16:42:51Z</dcterms:modified>
  <cp:revision>22</cp:revision>
  <dc:subject/>
  <dc:title>Texto</dc:title>
</cp:coreProperties>
</file>