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AFE-1584-4551-B370-D0646064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0C6-6445-4F49-9C33-FD93A02C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D74-C319-4869-A07B-899AFF9E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185-3E4E-48F4-9B66-F485E42B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D46-7810-4867-8891-C2F5F41B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CAF-9F76-476A-AD13-197C3BB6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264-4CD2-4B93-8FC3-745F169E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A76-A4CF-403D-87BB-B7D15A62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86C-E11C-4CF3-9C18-D964B78A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06F-F69E-4BFE-AABB-86A61FD1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592-C7C0-4C55-BC19-425A2F1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836-7E99-4C82-8150-911BD5C9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E70C-6039-4572-8CF2-986304DE31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01300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179280" y="357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10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11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2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3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7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8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9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10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11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2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3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26T07:25:35Z</dcterms:modified>
  <cp:revision>678</cp:revision>
  <dc:subject/>
  <dc:title>Diapositiva 1</dc:title>
</cp:coreProperties>
</file>