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098-C628-40B7-8AFD-F4270F4E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D4B-14BE-4893-934D-A5BD45D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DA6-0A1A-4C1D-B088-5D7B62FC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87C-87F0-4C13-B19A-E8921B22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E39-A13D-4A33-AF1A-D27F9940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FDB-CC49-48D5-AA4F-4D01FB6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8F4-F5D4-4BE7-AB54-EBE445C5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5BD-F9A7-4509-8D2F-F71D1FAF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6E6-3D7C-44E1-B949-E08F61A0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42D-BAC9-4CED-BC5C-858B5465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2D9-B8AD-4B02-A6BE-3F32F4D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4FC-4564-4B30-8CA3-124FB4A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173D-DF41-402C-8829-4D7C52892D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458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19:03Z</dcterms:modified>
  <cp:revision>204</cp:revision>
  <dc:subject/>
  <dc:title>Diapositiva 1</dc:title>
</cp:coreProperties>
</file>