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3C0-BD47-487D-81F2-C375AE15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EE3-574F-4211-812E-D0CB3063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F6A-25A0-4830-93AA-BAC5502F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3BB-5711-4CEE-9B4A-27BD79DA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90A-4D1E-49F1-8B2C-772EB050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0F1-BAF0-434B-A932-522D7890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071-853D-4BB9-891D-9B760A88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32B-A41A-485B-B56B-D5CFE428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761-BB7F-45E6-BA64-1E3B3A4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0C3-03FB-4D03-AB70-5425B14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9FC-2B50-4F8A-8D61-4E48A73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633-498B-4B0E-A0CE-E0E52ED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5794-EA85-4D7E-B342-16027055BE8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71280" y="5189040"/>
            <a:ext cx="4861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2771640" y="5734080"/>
            <a:ext cx="51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65164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0:19:10Z</dcterms:modified>
  <cp:revision>644</cp:revision>
  <dc:subject/>
  <dc:title>Diapositiva 1</dc:title>
</cp:coreProperties>
</file>