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059A-ADD2-4898-97B8-C0D4175B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47BD-5846-4C60-8DE4-AA610F0C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96BD-E680-4AB8-955A-AB35FC2C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DFBE-68EF-4FFA-98B4-A879A7B3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567E-EA1D-41AE-8010-C2A471FD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D3BE-4619-4745-A297-9B1B761E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18EC-3662-4C82-994E-4685EE28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1C9F-0E8A-4441-AD82-E2C3BA1D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CD0B-AD29-4C04-9542-EEFA0CBD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1B9E-1EB2-4210-B88C-3DF8DD61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B625-0ECF-4267-AFB2-49680F12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2FA3-859E-41C5-8332-F54E82A9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A4AA-C8C5-4E79-8164-99914D38F7A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ction Button: Sound 5">
            <a:hlinkClick r:id="rId1"/>
          </p:cNvPr>
          <p:cNvSpPr/>
          <p:nvPr/>
        </p:nvSpPr>
        <p:spPr>
          <a:xfrm>
            <a:off x="1071720" y="2286000"/>
            <a:ext cx="3000240" cy="3214800"/>
          </a:xfrm>
          <a:custGeom>
            <a:avLst/>
            <a:gdLst>
              <a:gd name="textAreaLeft" fmla="*/ 194400 w 3000240"/>
              <a:gd name="textAreaRight" fmla="*/ 2805840 w 3000240"/>
              <a:gd name="textAreaTop" fmla="*/ 194400 h 3214800"/>
              <a:gd name="textAreaBottom" fmla="*/ 3020400 h 3214800"/>
            </a:gdLst>
            <a:ahLst/>
            <a:rect l="textAreaLeft" t="textAreaTop" r="textAreaRight" b="textAreaBottom"/>
            <a:pathLst>
              <a:path w="21600" h="23145">
                <a:moveTo>
                  <a:pt x="0" y="0"/>
                </a:moveTo>
                <a:lnTo>
                  <a:pt x="21600" y="0"/>
                </a:lnTo>
                <a:lnTo>
                  <a:pt x="21600" y="23145"/>
                </a:lnTo>
                <a:lnTo>
                  <a:pt x="0" y="23145"/>
                </a:lnTo>
                <a:close/>
              </a:path>
              <a:path fill="lightenLess" w="21600" h="23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5">
                <a:moveTo>
                  <a:pt x="21600" y="0"/>
                </a:moveTo>
                <a:lnTo>
                  <a:pt x="21600" y="23145"/>
                </a:lnTo>
                <a:lnTo>
                  <a:pt x="20200" y="21745"/>
                </a:lnTo>
                <a:lnTo>
                  <a:pt x="20200" y="1400"/>
                </a:lnTo>
                <a:close/>
              </a:path>
              <a:path fill="darkenLess" w="21600" h="23145">
                <a:moveTo>
                  <a:pt x="21600" y="23145"/>
                </a:moveTo>
                <a:lnTo>
                  <a:pt x="0" y="23145"/>
                </a:lnTo>
                <a:lnTo>
                  <a:pt x="1400" y="21745"/>
                </a:lnTo>
                <a:lnTo>
                  <a:pt x="20200" y="21745"/>
                </a:lnTo>
                <a:close/>
              </a:path>
              <a:path fill="lighten" w="21600" h="23145">
                <a:moveTo>
                  <a:pt x="0" y="23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5"/>
                </a:lnTo>
                <a:close/>
              </a:path>
              <a:path fill="darken" w="21600" h="23145">
                <a:moveTo>
                  <a:pt x="3794" y="9179"/>
                </a:moveTo>
                <a:lnTo>
                  <a:pt x="8224" y="9179"/>
                </a:lnTo>
                <a:lnTo>
                  <a:pt x="12645" y="4566"/>
                </a:lnTo>
                <a:lnTo>
                  <a:pt x="12645" y="18579"/>
                </a:lnTo>
                <a:lnTo>
                  <a:pt x="8224" y="13966"/>
                </a:lnTo>
                <a:lnTo>
                  <a:pt x="3794" y="13966"/>
                </a:lnTo>
                <a:close/>
              </a:path>
              <a:path fill="darken" w="21600" h="23145">
                <a:moveTo>
                  <a:pt x="14299" y="11572"/>
                </a:moveTo>
                <a:lnTo>
                  <a:pt x="17806" y="11572"/>
                </a:lnTo>
              </a:path>
              <a:path fill="darken" w="21600" h="23145">
                <a:moveTo>
                  <a:pt x="14299" y="9179"/>
                </a:moveTo>
                <a:lnTo>
                  <a:pt x="17806" y="6411"/>
                </a:lnTo>
              </a:path>
              <a:path fill="darken" w="21600" h="23145">
                <a:moveTo>
                  <a:pt x="14299" y="13966"/>
                </a:moveTo>
                <a:lnTo>
                  <a:pt x="17806" y="16734"/>
                </a:lnTo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loud Callout 6"/>
          <p:cNvSpPr/>
          <p:nvPr/>
        </p:nvSpPr>
        <p:spPr>
          <a:xfrm rot="1631400">
            <a:off x="4642920" y="1487520"/>
            <a:ext cx="2428920" cy="1214280"/>
          </a:xfrm>
          <a:prstGeom prst="cloudCallout">
            <a:avLst>
              <a:gd name="adj1" fmla="val -39671"/>
              <a:gd name="adj2" fmla="val 12055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loud Callout 7"/>
          <p:cNvSpPr/>
          <p:nvPr/>
        </p:nvSpPr>
        <p:spPr>
          <a:xfrm rot="3584400">
            <a:off x="5449320" y="3165480"/>
            <a:ext cx="1774800" cy="1562040"/>
          </a:xfrm>
          <a:prstGeom prst="cloudCallout">
            <a:avLst>
              <a:gd name="adj1" fmla="val -39671"/>
              <a:gd name="adj2" fmla="val 12055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loud Callout 8"/>
          <p:cNvSpPr/>
          <p:nvPr/>
        </p:nvSpPr>
        <p:spPr>
          <a:xfrm rot="4725600">
            <a:off x="5206320" y="5119920"/>
            <a:ext cx="1677960" cy="1214280"/>
          </a:xfrm>
          <a:prstGeom prst="cloudCallout">
            <a:avLst>
              <a:gd name="adj1" fmla="val -39671"/>
              <a:gd name="adj2" fmla="val 12055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754200" y="374760"/>
            <a:ext cx="77882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"/>
          <p:cNvSpPr/>
          <p:nvPr/>
        </p:nvSpPr>
        <p:spPr>
          <a:xfrm>
            <a:off x="2643120" y="1571760"/>
            <a:ext cx="1000080" cy="13572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5"/>
          <p:cNvSpPr/>
          <p:nvPr/>
        </p:nvSpPr>
        <p:spPr>
          <a:xfrm>
            <a:off x="3714840" y="1571760"/>
            <a:ext cx="1000080" cy="13572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/>
          <p:cNvSpPr/>
          <p:nvPr/>
        </p:nvSpPr>
        <p:spPr>
          <a:xfrm>
            <a:off x="4786200" y="1571760"/>
            <a:ext cx="1000080" cy="13572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7"/>
          <p:cNvSpPr/>
          <p:nvPr/>
        </p:nvSpPr>
        <p:spPr>
          <a:xfrm>
            <a:off x="5857920" y="1571760"/>
            <a:ext cx="1000080" cy="13572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lowchart: Merge 8"/>
          <p:cNvSpPr/>
          <p:nvPr/>
        </p:nvSpPr>
        <p:spPr>
          <a:xfrm>
            <a:off x="3000240" y="3357720"/>
            <a:ext cx="3500640" cy="1643040"/>
          </a:xfrm>
          <a:prstGeom prst="flowChartMerg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9"/>
          <p:cNvSpPr/>
          <p:nvPr/>
        </p:nvSpPr>
        <p:spPr>
          <a:xfrm>
            <a:off x="2500200" y="5143680"/>
            <a:ext cx="43578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3"/>
          <p:cNvSpPr/>
          <p:nvPr/>
        </p:nvSpPr>
        <p:spPr>
          <a:xfrm>
            <a:off x="1119240" y="1231920"/>
            <a:ext cx="65656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4071960" y="1285920"/>
            <a:ext cx="785880" cy="1071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4071960" y="2428920"/>
            <a:ext cx="785880" cy="1071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4143240" y="3571920"/>
            <a:ext cx="785880" cy="1071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4143240" y="4714920"/>
            <a:ext cx="785880" cy="1071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8"/>
          <p:cNvSpPr/>
          <p:nvPr/>
        </p:nvSpPr>
        <p:spPr>
          <a:xfrm>
            <a:off x="6286680" y="1857240"/>
            <a:ext cx="1143000" cy="364356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3643560"/>
              <a:gd name="textAreaBottom" fmla="*/ 3587760 h 3643560"/>
            </a:gdLst>
            <a:ahLst/>
            <a:rect l="textAreaLeft" t="textAreaTop" r="textAreaRight" b="textAreaBottom"/>
            <a:pathLst>
              <a:path w="21600" h="68840">
                <a:moveTo>
                  <a:pt x="3600" y="0"/>
                </a:moveTo>
                <a:arcTo wR="3600" hR="3600" stAng="16200000" swAng="-5400000"/>
                <a:lnTo>
                  <a:pt x="0" y="65240"/>
                </a:lnTo>
                <a:arcTo wR="3600" hR="3600" stAng="10800000" swAng="-5400000"/>
                <a:lnTo>
                  <a:pt x="18000" y="688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9"/>
          <p:cNvSpPr/>
          <p:nvPr/>
        </p:nvSpPr>
        <p:spPr>
          <a:xfrm>
            <a:off x="1857240" y="1857240"/>
            <a:ext cx="1143000" cy="364356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3643560"/>
              <a:gd name="textAreaBottom" fmla="*/ 3587760 h 3643560"/>
            </a:gdLst>
            <a:ahLst/>
            <a:rect l="textAreaLeft" t="textAreaTop" r="textAreaRight" b="textAreaBottom"/>
            <a:pathLst>
              <a:path w="21600" h="68840">
                <a:moveTo>
                  <a:pt x="3600" y="0"/>
                </a:moveTo>
                <a:arcTo wR="3600" hR="3600" stAng="16200000" swAng="-5400000"/>
                <a:lnTo>
                  <a:pt x="0" y="65240"/>
                </a:lnTo>
                <a:arcTo wR="3600" hR="3600" stAng="10800000" swAng="-5400000"/>
                <a:lnTo>
                  <a:pt x="18000" y="688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ight Arrow 10"/>
          <p:cNvSpPr/>
          <p:nvPr/>
        </p:nvSpPr>
        <p:spPr>
          <a:xfrm flipV="1" rot="20424000">
            <a:off x="3074760" y="2001960"/>
            <a:ext cx="890280" cy="172800"/>
          </a:xfrm>
          <a:prstGeom prst="rightArrow">
            <a:avLst>
              <a:gd name="adj1" fmla="val 50000"/>
              <a:gd name="adj2" fmla="val 5035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Arrow 11"/>
          <p:cNvSpPr/>
          <p:nvPr/>
        </p:nvSpPr>
        <p:spPr>
          <a:xfrm flipV="1">
            <a:off x="3071880" y="2928240"/>
            <a:ext cx="888840" cy="174600"/>
          </a:xfrm>
          <a:prstGeom prst="rightArrow">
            <a:avLst>
              <a:gd name="adj1" fmla="val 50000"/>
              <a:gd name="adj2" fmla="val 4975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ight Arrow 12"/>
          <p:cNvSpPr/>
          <p:nvPr/>
        </p:nvSpPr>
        <p:spPr>
          <a:xfrm flipV="1">
            <a:off x="3143160" y="3928320"/>
            <a:ext cx="889200" cy="174600"/>
          </a:xfrm>
          <a:prstGeom prst="rightArrow">
            <a:avLst>
              <a:gd name="adj1" fmla="val 50000"/>
              <a:gd name="adj2" fmla="val 497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ight Arrow 13"/>
          <p:cNvSpPr/>
          <p:nvPr/>
        </p:nvSpPr>
        <p:spPr>
          <a:xfrm flipV="1">
            <a:off x="3143160" y="5071320"/>
            <a:ext cx="889200" cy="174600"/>
          </a:xfrm>
          <a:prstGeom prst="rightArrow">
            <a:avLst>
              <a:gd name="adj1" fmla="val 50000"/>
              <a:gd name="adj2" fmla="val 497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14"/>
          <p:cNvSpPr/>
          <p:nvPr/>
        </p:nvSpPr>
        <p:spPr>
          <a:xfrm flipV="1">
            <a:off x="5072040" y="2856960"/>
            <a:ext cx="889200" cy="174600"/>
          </a:xfrm>
          <a:prstGeom prst="rightArrow">
            <a:avLst>
              <a:gd name="adj1" fmla="val 50000"/>
              <a:gd name="adj2" fmla="val 497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ight Arrow 15"/>
          <p:cNvSpPr/>
          <p:nvPr/>
        </p:nvSpPr>
        <p:spPr>
          <a:xfrm flipV="1">
            <a:off x="5072040" y="3999960"/>
            <a:ext cx="889200" cy="174600"/>
          </a:xfrm>
          <a:prstGeom prst="rightArrow">
            <a:avLst>
              <a:gd name="adj1" fmla="val 50000"/>
              <a:gd name="adj2" fmla="val 497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ight Arrow 16"/>
          <p:cNvSpPr/>
          <p:nvPr/>
        </p:nvSpPr>
        <p:spPr>
          <a:xfrm flipV="1">
            <a:off x="5143680" y="5071320"/>
            <a:ext cx="888840" cy="174600"/>
          </a:xfrm>
          <a:prstGeom prst="rightArrow">
            <a:avLst>
              <a:gd name="adj1" fmla="val 50000"/>
              <a:gd name="adj2" fmla="val 4975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ight Arrow 17"/>
          <p:cNvSpPr/>
          <p:nvPr/>
        </p:nvSpPr>
        <p:spPr>
          <a:xfrm flipV="1" rot="525000">
            <a:off x="5008680" y="1851840"/>
            <a:ext cx="890640" cy="174600"/>
          </a:xfrm>
          <a:prstGeom prst="rightArrow">
            <a:avLst>
              <a:gd name="adj1" fmla="val 50000"/>
              <a:gd name="adj2" fmla="val 4985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2</cp:lastModifiedBy>
  <dcterms:modified xsi:type="dcterms:W3CDTF">2016-02-14T16:35:26Z</dcterms:modified>
  <cp:revision>485</cp:revision>
  <dc:subject/>
  <dc:title>Diapositiva 1</dc:title>
</cp:coreProperties>
</file>