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CA1-6A14-4328-AE14-77289D28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4E8-880A-4C97-817F-C2043D07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9EA6-FD3A-4908-A985-C5051173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9B3-BB2A-4916-A92F-3BA9E2F8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A173-AE5F-4E09-B11E-90C82825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184-12D1-4F68-A639-BB1EDAF1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767-5180-425F-94AB-CB373D66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094-F703-4413-A367-FFEA3748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493-AC4E-4478-84F5-A13A60E0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F20-00CA-4440-BD4B-4468D85E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BA2-9AFB-4E60-B7F1-AD1A14B0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CBA-072D-4F25-97E0-E8EEC43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B712-75AC-4A7F-A5F4-600038F09A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489564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a00425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5"/>
          <p:cNvSpPr/>
          <p:nvPr/>
        </p:nvSpPr>
        <p:spPr>
          <a:xfrm>
            <a:off x="324000" y="562140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a00425"/>
                </a:solidFill>
                <a:latin typeface="Arial"/>
              </a:rPr>
              <a:t>Subheading goes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500800" y="564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Callout 5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Callout 6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Callout 7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Callout 8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inus 9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Vertical Scroll 3"/>
          <p:cNvSpPr/>
          <p:nvPr/>
        </p:nvSpPr>
        <p:spPr>
          <a:xfrm>
            <a:off x="500040" y="1857240"/>
            <a:ext cx="3500640" cy="450072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Vertical Scroll 4"/>
          <p:cNvSpPr/>
          <p:nvPr/>
        </p:nvSpPr>
        <p:spPr>
          <a:xfrm>
            <a:off x="4357800" y="1928880"/>
            <a:ext cx="3500280" cy="450036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5"/>
          <p:cNvSpPr/>
          <p:nvPr/>
        </p:nvSpPr>
        <p:spPr>
          <a:xfrm>
            <a:off x="3857760" y="3571920"/>
            <a:ext cx="85716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02T13:42:48Z</dcterms:modified>
  <cp:revision>690</cp:revision>
  <dc:subject/>
  <dc:title>Diapositiva 1</dc:title>
</cp:coreProperties>
</file>