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EDD-41C2-46B6-86AA-9FAA40D5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442-73C3-4E5C-AA7B-94149352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284-FC55-47C9-BD95-0CE19FE7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83C-14BC-4EBC-B02B-52859656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E49-A123-4629-9620-FC4CA738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2D9-B07A-40FF-A698-C078CCA1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DB3-81A5-4183-8D80-03D3A9F9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F9E-0B45-4963-8A3D-C8F89DC7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8D5-6E95-4567-A60E-8688D287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B78-2CDC-4E9E-A7F3-5F28D298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2F0-9C8A-4C49-BB4A-726D6882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D93-9EE2-4935-A0A4-9C2AC77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E04E-9D5E-4CFB-9883-CCC0F63B41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Explosion 1 5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xplosion 1 6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xplosion 1 7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rved Down Arrow 9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880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0" hR="21600" stAng="10800000" swAng="5400000"/>
                <a:lnTo>
                  <a:pt x="11300" y="0"/>
                </a:lnTo>
                <a:arcTo wR="9300" hR="21600" stAng="-5400000" swAng="3542882"/>
                <a:lnTo>
                  <a:pt x="21305" y="16200"/>
                </a:lnTo>
                <a:lnTo>
                  <a:pt x="19599" y="21600"/>
                </a:lnTo>
                <a:lnTo>
                  <a:pt x="17303" y="16200"/>
                </a:lnTo>
                <a:lnTo>
                  <a:pt x="18304" y="16200"/>
                </a:lnTo>
                <a:arcTo wR="9300" hR="21600" stAng="-1857118" swAng="-3382915"/>
                <a:lnTo>
                  <a:pt x="10300" y="125"/>
                </a:lnTo>
                <a:arcTo wR="9300" hR="21600" stAng="-5559968" swAng="-5240032"/>
                <a:close/>
              </a:path>
              <a:path fill="darkenLess" w="21600" h="21600">
                <a:moveTo>
                  <a:pt x="0" y="21600"/>
                </a:moveTo>
                <a:arcTo wR="9300" hR="21600" stAng="10800000" swAng="5400000"/>
                <a:lnTo>
                  <a:pt x="9300" y="0"/>
                </a:lnTo>
                <a:arcTo wR="9300" hR="21600" stAng="-5400000" swAng="159968"/>
                <a:lnTo>
                  <a:pt x="10300" y="125"/>
                </a:lnTo>
                <a:arcTo wR="9300" hR="21600" stAng="-5559968" swAng="-5240032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rved Down Arrow 10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rved Down Arrow 11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724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10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2" y="16200"/>
                </a:lnTo>
                <a:lnTo>
                  <a:pt x="18250" y="16200"/>
                </a:lnTo>
                <a:arcTo wR="9272" hR="21600" stAng="-1861611" swAng="-3375344"/>
                <a:lnTo>
                  <a:pt x="10291" y="131"/>
                </a:lnTo>
                <a:arcTo wR="9272" hR="21600" stAng="-5563045" swAng="-5236955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3045"/>
                <a:lnTo>
                  <a:pt x="10291" y="131"/>
                </a:lnTo>
                <a:arcTo wR="9272" hR="21600" stAng="-5563045" swAng="-523695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rved Down Arrow 12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924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8" hR="21600" stAng="10800000" swAng="5400000"/>
                <a:lnTo>
                  <a:pt x="11205" y="0"/>
                </a:lnTo>
                <a:arcTo wR="9588" hR="21600" stAng="-5400000" swAng="3588794"/>
                <a:lnTo>
                  <a:pt x="21296" y="16200"/>
                </a:lnTo>
                <a:lnTo>
                  <a:pt x="19984" y="21600"/>
                </a:lnTo>
                <a:lnTo>
                  <a:pt x="18063" y="16200"/>
                </a:lnTo>
                <a:lnTo>
                  <a:pt x="18871" y="16200"/>
                </a:lnTo>
                <a:arcTo wR="9588" hR="21600" stAng="-1811206" swAng="-3459717"/>
                <a:lnTo>
                  <a:pt x="10396" y="77"/>
                </a:lnTo>
                <a:arcTo wR="9588" hR="21600" stAng="-5529076" swAng="-5270924"/>
                <a:close/>
              </a:path>
              <a:path fill="darkenLess" w="21600" h="21600">
                <a:moveTo>
                  <a:pt x="0" y="21600"/>
                </a:moveTo>
                <a:arcTo wR="9588" hR="21600" stAng="10800000" swAng="5400000"/>
                <a:lnTo>
                  <a:pt x="9588" y="0"/>
                </a:lnTo>
                <a:arcTo wR="9588" hR="21600" stAng="-5400000" swAng="129076"/>
                <a:lnTo>
                  <a:pt x="10396" y="77"/>
                </a:lnTo>
                <a:arcTo wR="9588" hR="21600" stAng="-5529076" swAng="-527092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on Button: Sound 5">
            <a:hlinkClick r:id="rId1"/>
          </p:cNvPr>
          <p:cNvSpPr/>
          <p:nvPr/>
        </p:nvSpPr>
        <p:spPr>
          <a:xfrm>
            <a:off x="1071720" y="2286000"/>
            <a:ext cx="3000240" cy="3214800"/>
          </a:xfrm>
          <a:custGeom>
            <a:avLst/>
            <a:gdLst>
              <a:gd name="textAreaLeft" fmla="*/ 194400 w 3000240"/>
              <a:gd name="textAreaRight" fmla="*/ 2805840 w 3000240"/>
              <a:gd name="textAreaTop" fmla="*/ 194400 h 3214800"/>
              <a:gd name="textAreaBottom" fmla="*/ 3020400 h 32148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9179"/>
                </a:moveTo>
                <a:lnTo>
                  <a:pt x="8224" y="9179"/>
                </a:lnTo>
                <a:lnTo>
                  <a:pt x="12645" y="4566"/>
                </a:lnTo>
                <a:lnTo>
                  <a:pt x="12645" y="18579"/>
                </a:lnTo>
                <a:lnTo>
                  <a:pt x="8224" y="13966"/>
                </a:lnTo>
                <a:lnTo>
                  <a:pt x="3794" y="13966"/>
                </a:lnTo>
                <a:close/>
              </a:path>
              <a:path fill="darken" w="21600" h="23145">
                <a:moveTo>
                  <a:pt x="14299" y="11572"/>
                </a:moveTo>
                <a:lnTo>
                  <a:pt x="17806" y="11572"/>
                </a:lnTo>
              </a:path>
              <a:path fill="darken" w="21600" h="23145">
                <a:moveTo>
                  <a:pt x="14299" y="9179"/>
                </a:moveTo>
                <a:lnTo>
                  <a:pt x="17806" y="6411"/>
                </a:lnTo>
              </a:path>
              <a:path fill="darken" w="21600" h="23145">
                <a:moveTo>
                  <a:pt x="14299" y="13966"/>
                </a:moveTo>
                <a:lnTo>
                  <a:pt x="17806" y="16734"/>
                </a:lnTo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 Callout 6"/>
          <p:cNvSpPr/>
          <p:nvPr/>
        </p:nvSpPr>
        <p:spPr>
          <a:xfrm rot="1631400">
            <a:off x="4642920" y="1487520"/>
            <a:ext cx="242892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 Callout 7"/>
          <p:cNvSpPr/>
          <p:nvPr/>
        </p:nvSpPr>
        <p:spPr>
          <a:xfrm rot="3584400">
            <a:off x="5449320" y="3165480"/>
            <a:ext cx="1774800" cy="156204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 Callout 8"/>
          <p:cNvSpPr/>
          <p:nvPr/>
        </p:nvSpPr>
        <p:spPr>
          <a:xfrm rot="4725600">
            <a:off x="5206320" y="5119920"/>
            <a:ext cx="167796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Vertical Scroll 5"/>
          <p:cNvSpPr/>
          <p:nvPr/>
        </p:nvSpPr>
        <p:spPr>
          <a:xfrm>
            <a:off x="500040" y="1857240"/>
            <a:ext cx="3500640" cy="45007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Vertical Scroll 6"/>
          <p:cNvSpPr/>
          <p:nvPr/>
        </p:nvSpPr>
        <p:spPr>
          <a:xfrm>
            <a:off x="4357800" y="1928880"/>
            <a:ext cx="3500280" cy="45003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ight Arrow 7"/>
          <p:cNvSpPr/>
          <p:nvPr/>
        </p:nvSpPr>
        <p:spPr>
          <a:xfrm>
            <a:off x="3857760" y="3571920"/>
            <a:ext cx="85716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ASUS</cp:lastModifiedBy>
  <dcterms:modified xsi:type="dcterms:W3CDTF">2016-02-05T16:51:44Z</dcterms:modified>
  <cp:revision>51</cp:revision>
  <dc:subject/>
  <dc:title>Diapositiva 1</dc:title>
</cp:coreProperties>
</file>