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1D52-B66E-48F1-B5C0-AEC8E5D0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6FD-6F1D-41F7-B2FB-83798ECE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BD2C-BD46-4353-B188-FFA8D3EA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1A34-FB1F-4280-AA38-F574AEF3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2681-CBF4-4881-AE46-0F5C6AAD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AAC4-8E11-467E-8C7A-9786A056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42C8-1894-4706-92CA-2901A084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E21-772F-4ECB-918D-6AA7E267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EA64-B1C0-4A46-AE39-66A2130B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6FF-9081-426B-AAFC-780F10CE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8B61-6B66-4D10-BEE7-68AD6DF7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9AE7-BEBC-4E96-982E-2D948C05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9DAF-AD64-4B50-922B-6DD9595C3D4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4652640"/>
            <a:ext cx="4105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9"/>
          <p:cNvSpPr/>
          <p:nvPr/>
        </p:nvSpPr>
        <p:spPr>
          <a:xfrm>
            <a:off x="395280" y="5446800"/>
            <a:ext cx="3745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3132000" y="5464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eft-Right Arrow Callout 5"/>
          <p:cNvSpPr/>
          <p:nvPr/>
        </p:nvSpPr>
        <p:spPr>
          <a:xfrm>
            <a:off x="2928960" y="2500200"/>
            <a:ext cx="3214800" cy="1928880"/>
          </a:xfrm>
          <a:custGeom>
            <a:avLst/>
            <a:gdLst>
              <a:gd name="textAreaLeft" fmla="*/ 833760 w 3214800"/>
              <a:gd name="textAreaRight" fmla="*/ 2381040 w 3214800"/>
              <a:gd name="textAreaTop" fmla="*/ 0 h 1928880"/>
              <a:gd name="textAreaBottom" fmla="*/ 1929240 h 1928880"/>
            </a:gdLst>
            <a:ahLst/>
            <a:rect l="textAreaLeft" t="textAreaTop" r="textAreaRight" b="textAreaBottom"/>
            <a:pathLst>
              <a:path w="21600" h="21600">
                <a:moveTo>
                  <a:pt x="5603" y="0"/>
                </a:moveTo>
                <a:lnTo>
                  <a:pt x="15997" y="0"/>
                </a:lnTo>
                <a:lnTo>
                  <a:pt x="15997" y="8100"/>
                </a:lnTo>
                <a:lnTo>
                  <a:pt x="18360" y="8100"/>
                </a:lnTo>
                <a:lnTo>
                  <a:pt x="18360" y="5500"/>
                </a:lnTo>
                <a:lnTo>
                  <a:pt x="21600" y="10800"/>
                </a:lnTo>
                <a:lnTo>
                  <a:pt x="18360" y="16100"/>
                </a:lnTo>
                <a:lnTo>
                  <a:pt x="18360" y="13500"/>
                </a:lnTo>
                <a:lnTo>
                  <a:pt x="15997" y="13500"/>
                </a:lnTo>
                <a:lnTo>
                  <a:pt x="15997" y="21600"/>
                </a:lnTo>
                <a:lnTo>
                  <a:pt x="5603" y="21600"/>
                </a:lnTo>
                <a:lnTo>
                  <a:pt x="5603" y="13500"/>
                </a:lnTo>
                <a:lnTo>
                  <a:pt x="3240" y="13500"/>
                </a:lnTo>
                <a:lnTo>
                  <a:pt x="3240" y="16100"/>
                </a:lnTo>
                <a:lnTo>
                  <a:pt x="0" y="10800"/>
                </a:lnTo>
                <a:lnTo>
                  <a:pt x="3240" y="5500"/>
                </a:lnTo>
                <a:lnTo>
                  <a:pt x="3240" y="8100"/>
                </a:lnTo>
                <a:lnTo>
                  <a:pt x="5603" y="81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ame 6"/>
          <p:cNvSpPr/>
          <p:nvPr/>
        </p:nvSpPr>
        <p:spPr>
          <a:xfrm>
            <a:off x="6357960" y="2214720"/>
            <a:ext cx="2500200" cy="2214360"/>
          </a:xfrm>
          <a:custGeom>
            <a:avLst/>
            <a:gdLst/>
            <a:ahLst/>
            <a:rect l="l" t="t" r="r" b="b"/>
            <a:pathLst>
              <a:path w="2500330" h="2214578">
                <a:moveTo>
                  <a:pt x="0" y="0"/>
                </a:moveTo>
                <a:lnTo>
                  <a:pt x="2500330" y="0"/>
                </a:lnTo>
                <a:lnTo>
                  <a:pt x="2500330" y="2214578"/>
                </a:lnTo>
                <a:lnTo>
                  <a:pt x="0" y="2214578"/>
                </a:lnTo>
                <a:lnTo>
                  <a:pt x="0" y="0"/>
                </a:lnTo>
                <a:close/>
                <a:moveTo>
                  <a:pt x="276822" y="276822"/>
                </a:moveTo>
                <a:lnTo>
                  <a:pt x="276822" y="1937756"/>
                </a:lnTo>
                <a:lnTo>
                  <a:pt x="2223508" y="1937756"/>
                </a:lnTo>
                <a:lnTo>
                  <a:pt x="2223508" y="276822"/>
                </a:lnTo>
                <a:lnTo>
                  <a:pt x="276822" y="27682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ame 7"/>
          <p:cNvSpPr/>
          <p:nvPr/>
        </p:nvSpPr>
        <p:spPr>
          <a:xfrm>
            <a:off x="357120" y="2357280"/>
            <a:ext cx="2500560" cy="2214720"/>
          </a:xfrm>
          <a:custGeom>
            <a:avLst/>
            <a:gdLst/>
            <a:ahLst/>
            <a:rect l="l" t="t" r="r" b="b"/>
            <a:pathLst>
              <a:path w="2500330" h="2214578">
                <a:moveTo>
                  <a:pt x="0" y="0"/>
                </a:moveTo>
                <a:lnTo>
                  <a:pt x="2500330" y="0"/>
                </a:lnTo>
                <a:lnTo>
                  <a:pt x="2500330" y="2214578"/>
                </a:lnTo>
                <a:lnTo>
                  <a:pt x="0" y="2214578"/>
                </a:lnTo>
                <a:lnTo>
                  <a:pt x="0" y="0"/>
                </a:lnTo>
                <a:close/>
                <a:moveTo>
                  <a:pt x="276822" y="276822"/>
                </a:moveTo>
                <a:lnTo>
                  <a:pt x="276822" y="1937756"/>
                </a:lnTo>
                <a:lnTo>
                  <a:pt x="2223508" y="1937756"/>
                </a:lnTo>
                <a:lnTo>
                  <a:pt x="2223508" y="276822"/>
                </a:lnTo>
                <a:lnTo>
                  <a:pt x="276822" y="27682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692880" y="323532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689040" y="314316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6618600" y="321480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857160" y="50004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57160" y="278604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6572160" y="42876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643200" y="42876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6715080" y="478620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3857760" y="492912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857160" y="492912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6643800" y="257184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3643200" y="2714760"/>
            <a:ext cx="2357640" cy="16430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ight Arrow 12"/>
          <p:cNvSpPr/>
          <p:nvPr/>
        </p:nvSpPr>
        <p:spPr>
          <a:xfrm>
            <a:off x="3143160" y="1428840"/>
            <a:ext cx="357120" cy="57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ight Arrow 13"/>
          <p:cNvSpPr/>
          <p:nvPr/>
        </p:nvSpPr>
        <p:spPr>
          <a:xfrm>
            <a:off x="3286080" y="5786280"/>
            <a:ext cx="357120" cy="571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ight Arrow 14"/>
          <p:cNvSpPr/>
          <p:nvPr/>
        </p:nvSpPr>
        <p:spPr>
          <a:xfrm>
            <a:off x="6000840" y="1428840"/>
            <a:ext cx="357120" cy="57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ight Arrow 15"/>
          <p:cNvSpPr/>
          <p:nvPr/>
        </p:nvSpPr>
        <p:spPr>
          <a:xfrm>
            <a:off x="6286680" y="5572080"/>
            <a:ext cx="357120" cy="571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own Arrow 16"/>
          <p:cNvSpPr/>
          <p:nvPr/>
        </p:nvSpPr>
        <p:spPr>
          <a:xfrm>
            <a:off x="7286760" y="214308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17"/>
          <p:cNvSpPr/>
          <p:nvPr/>
        </p:nvSpPr>
        <p:spPr>
          <a:xfrm rot="5400000">
            <a:off x="7179480" y="4250520"/>
            <a:ext cx="357120" cy="571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18"/>
          <p:cNvSpPr/>
          <p:nvPr/>
        </p:nvSpPr>
        <p:spPr>
          <a:xfrm rot="5400000">
            <a:off x="2356200" y="4429800"/>
            <a:ext cx="357120" cy="57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ight Arrow 19"/>
          <p:cNvSpPr/>
          <p:nvPr/>
        </p:nvSpPr>
        <p:spPr>
          <a:xfrm rot="5164200">
            <a:off x="2037960" y="2139840"/>
            <a:ext cx="419040" cy="609480"/>
          </a:xfrm>
          <a:prstGeom prst="rightArrow">
            <a:avLst>
              <a:gd name="adj1" fmla="val 50000"/>
              <a:gd name="adj2" fmla="val 54079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owchart: Delay 3"/>
          <p:cNvSpPr/>
          <p:nvPr/>
        </p:nvSpPr>
        <p:spPr>
          <a:xfrm rot="16200000">
            <a:off x="2117880" y="2006280"/>
            <a:ext cx="996840" cy="1562040"/>
          </a:xfrm>
          <a:prstGeom prst="flowChartDelay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lowchart: Process 4"/>
          <p:cNvSpPr/>
          <p:nvPr/>
        </p:nvSpPr>
        <p:spPr>
          <a:xfrm>
            <a:off x="1835280" y="3327480"/>
            <a:ext cx="1562040" cy="3141720"/>
          </a:xfrm>
          <a:prstGeom prst="flowChartProcess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U-Turn Arrow 5"/>
          <p:cNvSpPr/>
          <p:nvPr/>
        </p:nvSpPr>
        <p:spPr>
          <a:xfrm>
            <a:off x="2843280" y="692280"/>
            <a:ext cx="1571400" cy="1428480"/>
          </a:xfrm>
          <a:custGeom>
            <a:avLst/>
            <a:gdLst/>
            <a:ahLst/>
            <a:rect l="l" t="t" r="r" b="b"/>
            <a:pathLst>
              <a:path w="1571636" h="1428760">
                <a:moveTo>
                  <a:pt x="0" y="1428760"/>
                </a:moveTo>
                <a:lnTo>
                  <a:pt x="0" y="625083"/>
                </a:lnTo>
                <a:cubicBezTo>
                  <a:pt x="0" y="279859"/>
                  <a:pt x="279859" y="0"/>
                  <a:pt x="625083" y="0"/>
                </a:cubicBezTo>
                <a:lnTo>
                  <a:pt x="767959" y="0"/>
                </a:lnTo>
                <a:cubicBezTo>
                  <a:pt x="1113183" y="0"/>
                  <a:pt x="1393042" y="279859"/>
                  <a:pt x="1393042" y="625083"/>
                </a:cubicBezTo>
                <a:cubicBezTo>
                  <a:pt x="1393042" y="654849"/>
                  <a:pt x="1393041" y="684614"/>
                  <a:pt x="1393041" y="714380"/>
                </a:cubicBezTo>
                <a:lnTo>
                  <a:pt x="1571636" y="714380"/>
                </a:lnTo>
                <a:lnTo>
                  <a:pt x="1214446" y="1071570"/>
                </a:lnTo>
                <a:lnTo>
                  <a:pt x="857256" y="714380"/>
                </a:lnTo>
                <a:lnTo>
                  <a:pt x="1035851" y="714380"/>
                </a:lnTo>
                <a:lnTo>
                  <a:pt x="1035851" y="625083"/>
                </a:lnTo>
                <a:cubicBezTo>
                  <a:pt x="1035851" y="477130"/>
                  <a:pt x="915911" y="357190"/>
                  <a:pt x="767958" y="357190"/>
                </a:cubicBezTo>
                <a:lnTo>
                  <a:pt x="625083" y="357190"/>
                </a:lnTo>
                <a:cubicBezTo>
                  <a:pt x="477130" y="357190"/>
                  <a:pt x="357190" y="477130"/>
                  <a:pt x="357190" y="625083"/>
                </a:cubicBezTo>
                <a:lnTo>
                  <a:pt x="357190" y="1428760"/>
                </a:lnTo>
                <a:lnTo>
                  <a:pt x="0" y="142876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U-Turn Arrow 6"/>
          <p:cNvSpPr/>
          <p:nvPr/>
        </p:nvSpPr>
        <p:spPr>
          <a:xfrm>
            <a:off x="5796000" y="692280"/>
            <a:ext cx="1571760" cy="1428480"/>
          </a:xfrm>
          <a:custGeom>
            <a:avLst/>
            <a:gdLst/>
            <a:ahLst/>
            <a:rect l="l" t="t" r="r" b="b"/>
            <a:pathLst>
              <a:path w="1571636" h="1428760">
                <a:moveTo>
                  <a:pt x="0" y="1428760"/>
                </a:moveTo>
                <a:lnTo>
                  <a:pt x="0" y="625083"/>
                </a:lnTo>
                <a:cubicBezTo>
                  <a:pt x="0" y="279859"/>
                  <a:pt x="279859" y="0"/>
                  <a:pt x="625083" y="0"/>
                </a:cubicBezTo>
                <a:lnTo>
                  <a:pt x="767959" y="0"/>
                </a:lnTo>
                <a:cubicBezTo>
                  <a:pt x="1113183" y="0"/>
                  <a:pt x="1393042" y="279859"/>
                  <a:pt x="1393042" y="625083"/>
                </a:cubicBezTo>
                <a:cubicBezTo>
                  <a:pt x="1393042" y="654849"/>
                  <a:pt x="1393041" y="684614"/>
                  <a:pt x="1393041" y="714380"/>
                </a:cubicBezTo>
                <a:lnTo>
                  <a:pt x="1571636" y="714380"/>
                </a:lnTo>
                <a:lnTo>
                  <a:pt x="1214446" y="1071570"/>
                </a:lnTo>
                <a:lnTo>
                  <a:pt x="857256" y="714380"/>
                </a:lnTo>
                <a:lnTo>
                  <a:pt x="1035851" y="714380"/>
                </a:lnTo>
                <a:lnTo>
                  <a:pt x="1035851" y="625083"/>
                </a:lnTo>
                <a:cubicBezTo>
                  <a:pt x="1035851" y="477130"/>
                  <a:pt x="915911" y="357190"/>
                  <a:pt x="767958" y="357190"/>
                </a:cubicBezTo>
                <a:lnTo>
                  <a:pt x="625083" y="357190"/>
                </a:lnTo>
                <a:cubicBezTo>
                  <a:pt x="477130" y="357190"/>
                  <a:pt x="357190" y="477130"/>
                  <a:pt x="357190" y="625083"/>
                </a:cubicBezTo>
                <a:lnTo>
                  <a:pt x="357190" y="1428760"/>
                </a:lnTo>
                <a:lnTo>
                  <a:pt x="0" y="142876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lowchart: Process 7"/>
          <p:cNvSpPr/>
          <p:nvPr/>
        </p:nvSpPr>
        <p:spPr>
          <a:xfrm>
            <a:off x="3844800" y="3327480"/>
            <a:ext cx="1560600" cy="3141720"/>
          </a:xfrm>
          <a:prstGeom prst="flowChartProcess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owchart: Process 8"/>
          <p:cNvSpPr/>
          <p:nvPr/>
        </p:nvSpPr>
        <p:spPr>
          <a:xfrm>
            <a:off x="5869080" y="3363840"/>
            <a:ext cx="1560600" cy="3141720"/>
          </a:xfrm>
          <a:prstGeom prst="flowChartProcess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lowchart: Delay 9"/>
          <p:cNvSpPr/>
          <p:nvPr/>
        </p:nvSpPr>
        <p:spPr>
          <a:xfrm rot="16200000">
            <a:off x="4130640" y="2030040"/>
            <a:ext cx="995400" cy="1560600"/>
          </a:xfrm>
          <a:prstGeom prst="flowChartDelay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lowchart: Delay 10"/>
          <p:cNvSpPr/>
          <p:nvPr/>
        </p:nvSpPr>
        <p:spPr>
          <a:xfrm rot="16200000">
            <a:off x="6139800" y="2022840"/>
            <a:ext cx="996840" cy="1560600"/>
          </a:xfrm>
          <a:prstGeom prst="flowChartDelay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2-10T01:20:27Z</dcterms:modified>
  <cp:revision>831</cp:revision>
  <dc:subject/>
  <dc:title>Diapositiva 1</dc:title>
</cp:coreProperties>
</file>