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8E0A-49C1-44B6-BC7E-C845CD7C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E1E-5926-4297-B4A0-4E7CCF6E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BFA5-5FEA-43AA-8435-21B3C82FF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D916-756D-4937-BCA9-1051CBB8C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864F-78FD-4EAD-8105-3A023512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F9C7-BFC6-4E6C-AAF6-7B46DCC6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4BF-380B-43F6-9903-379FBCDA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69A-02C7-40EB-B268-98A94C56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882-181C-4217-B2C9-836CF020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D11-956D-42D7-A7B0-CF605E2A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40C2-E989-4B5B-927F-BA5D546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683-C7F4-4838-A2A7-3A4223C8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4D3B-2288-4E89-BB8D-D0F8E09AB8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82692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0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1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radan</cp:lastModifiedBy>
  <dcterms:modified xsi:type="dcterms:W3CDTF">2016-02-26T07:26:30Z</dcterms:modified>
  <cp:revision>42</cp:revision>
  <dc:subject/>
  <dc:title>TITLE</dc:title>
</cp:coreProperties>
</file>