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37D-78B0-47B1-9B26-24EEE6A5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D96-FBA2-49CE-9E6A-A996E4C9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BCD-2F93-4CC9-9429-E6351CF8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229-8AC9-4EC2-8307-5E5FEA1C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FA4-D931-437B-A229-A140B9D1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437-1D9A-445B-950D-CC12257C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920-2600-4838-95E5-C5EF0DCE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C6B-21C2-42FE-BA46-376BEF1E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298-0399-45DF-A5C6-D11A4DF3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23E-2841-4804-A57C-86E8CCB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361-898E-470E-828B-65B2B858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0FB-D507-471A-B7C3-BD52D0CD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0D97-1BC9-4CCF-8D09-1AFF7FA65F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95280" y="5924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0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1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0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1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31:33Z</dcterms:created>
  <dc:creator>Mariajose</dc:creator>
  <dc:description/>
  <dc:language>en-US</dc:language>
  <cp:lastModifiedBy>radan</cp:lastModifiedBy>
  <dcterms:modified xsi:type="dcterms:W3CDTF">2016-02-26T07:26:46Z</dcterms:modified>
  <cp:revision>3</cp:revision>
  <dc:subject/>
  <dc:title>Title</dc:title>
</cp:coreProperties>
</file>