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A713-2186-47AB-8F41-445A5DF383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0522-C2A0-460E-BF66-3CB9070ACC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B149-A907-4D49-BBD8-D654022B96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845-4003-4341-8929-FD915F17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B72-1C0A-43D1-ADD9-7348E197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536-F13E-4C32-BE51-A6CDA8F9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B79-2B79-413E-9693-D074134E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92A-F549-4A1D-9389-BC8631EE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780-FD39-4115-8749-3B5F321E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0BB-EAD7-42AF-AC99-38A4B88E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FEB-1500-4580-BC61-5D5C77DD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0E9-E135-49C6-BF7D-59F7B92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FB6-31B3-425E-893D-716B0ED4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4A8-B487-4E35-BCE2-410BB3FE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A47-C2E0-42DF-8B89-8FA94FB3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749A-18C0-4339-B73A-854B8F8739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2400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6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8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9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0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1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9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</cp:lastModifiedBy>
  <dcterms:modified xsi:type="dcterms:W3CDTF">2016-02-26T07:17:36Z</dcterms:modified>
  <cp:revision>36</cp:revision>
  <dc:subject/>
  <dc:title>TITLE</dc:title>
</cp:coreProperties>
</file>