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9F6-BDE7-4D03-A88A-125BAD4E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45E-CABE-4B47-8ABD-715D566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680-82C4-47B6-982B-62BCBE9A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541-8563-4BFD-8691-D54A2F65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035-B96A-4F89-AD52-C3E6FA4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F04-1D7C-4869-9E28-C4D5025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3B7-D9D0-48C8-8008-C39ABDD7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7DE-090E-4501-81A0-F6BBE77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762-9AEF-4FE1-AD2A-44ED85BD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570-4096-4252-A90D-B69FC15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AE1-33DC-4E09-AD15-03869E7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33E-92E0-4B33-BEF4-F187FA6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4065-73E5-4151-ADF3-5234519AC8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149360"/>
            <a:ext cx="5040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7"/>
          <p:cNvSpPr/>
          <p:nvPr/>
        </p:nvSpPr>
        <p:spPr>
          <a:xfrm>
            <a:off x="826920" y="4869000"/>
            <a:ext cx="36738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6000840" y="564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lowchart: Extract 5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inus 6"/>
          <p:cNvSpPr/>
          <p:nvPr/>
        </p:nvSpPr>
        <p:spPr>
          <a:xfrm rot="319800">
            <a:off x="500040" y="3785760"/>
            <a:ext cx="8358120" cy="571680"/>
          </a:xfrm>
          <a:custGeom>
            <a:avLst/>
            <a:gdLst/>
            <a:ahLst/>
            <a:rect l="l" t="t" r="r" b="b"/>
            <a:pathLst>
              <a:path w="8358187" h="571500">
                <a:moveTo>
                  <a:pt x="1107878" y="218542"/>
                </a:moveTo>
                <a:lnTo>
                  <a:pt x="7250309" y="218542"/>
                </a:lnTo>
                <a:lnTo>
                  <a:pt x="7250309" y="352958"/>
                </a:lnTo>
                <a:lnTo>
                  <a:pt x="1107878" y="352958"/>
                </a:lnTo>
                <a:lnTo>
                  <a:pt x="1107878" y="218542"/>
                </a:lnTo>
                <a:close/>
              </a:path>
            </a:pathLst>
          </a:custGeom>
          <a:solidFill>
            <a:srgbClr val="0d0d0d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7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8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9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0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1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2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3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1428840" y="4643280"/>
            <a:ext cx="785880" cy="92880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2286000" y="4357800"/>
            <a:ext cx="1071720" cy="128592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3429000" y="4214880"/>
            <a:ext cx="1357200" cy="150012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4929120" y="3857760"/>
            <a:ext cx="1785960" cy="192852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6786720" y="3571920"/>
            <a:ext cx="2357280" cy="235728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8"/>
          <p:cNvSpPr/>
          <p:nvPr/>
        </p:nvSpPr>
        <p:spPr>
          <a:xfrm rot="20983200">
            <a:off x="1473120" y="3504960"/>
            <a:ext cx="7286760" cy="3571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Callout 3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4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 Callout 5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11:17:04Z</dcterms:modified>
  <cp:revision>593</cp:revision>
  <dc:subject/>
  <dc:title>Diapositiva 1</dc:title>
</cp:coreProperties>
</file>