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70B-6FEE-42A7-BDC1-8F77D92E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B0B-602A-4070-B444-ADCA46C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F23-18C4-42E9-A2F6-E4C740CF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0AD-74A4-447D-96BC-C139B7E7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89B-E78C-42C2-91BF-2A9D645D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650-CEF5-4190-B9F2-97E49746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834-37ED-434D-BAEE-3952B99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B0C-2DD1-4BC9-8D08-4D261EF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E1E-15A5-44D7-A3B9-2D2BBB97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853-1566-4CFF-A485-6EE400F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E53-D9D2-4A62-A9BE-AB5CB3D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8E6-4A4D-4801-AA36-A091122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350-6573-4501-B764-30DBB8BB68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2</cp:lastModifiedBy>
  <dcterms:modified xsi:type="dcterms:W3CDTF">2016-02-11T12:17:17Z</dcterms:modified>
  <cp:revision>92</cp:revision>
  <dc:subject/>
  <dc:title>TITLE</dc:title>
</cp:coreProperties>
</file>