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2BD-707C-4097-A173-9D0C7B806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C43-CCBA-48AE-B974-8C2F98E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4E1-E0CA-45C9-B898-3C3E37D7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F92-D04C-4CAB-843A-D78F2CD2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539-1FE0-4CD5-8306-B44173F2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EDE-3459-4CAC-8604-9477F18B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8E2-C6CE-4D0B-AD43-F5C132DC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6C0D-A15D-4D35-A8DC-5FE27934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112-A245-4493-AFB8-1A3DB75D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3F2-1EF9-4860-8D4F-B99EA00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469-5154-4A14-ADCE-EB58A08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9F3-601C-4031-A4ED-7525EAB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4CC3-AB96-4708-B633-672F0EDF6ED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907560"/>
            <a:ext cx="4896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8360" y="1557360"/>
            <a:ext cx="3456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bheading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292720" y="544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add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11T11:33:54Z</dcterms:modified>
  <cp:revision>589</cp:revision>
  <dc:subject/>
  <dc:title>Diapositiva 1</dc:title>
</cp:coreProperties>
</file>