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662-A374-41C9-923B-32A0FC90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DC3-94CF-4517-9C3D-F7A433B6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036C-E77A-4E46-BB83-C9119FF0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73B-4466-4A0C-9630-327038A0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E26-C1E3-4C26-8857-84775F65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935D-0C0F-473A-847C-10867EBC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136-1E17-47B0-836E-79FB4CBA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3BE-9134-43E3-A12A-8C3D6911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79C-E2CA-423C-AFCF-3A3DB9DE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FEDB-4338-44F3-98C5-10DD93F0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B3B1-6F30-4A1F-9894-54D3ACF4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D0F5-69A6-4742-88E8-1AFB4932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4FED-96D8-4FC3-BB05-C236E40A51D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4492800" y="58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Explosion 1 5"/>
          <p:cNvSpPr/>
          <p:nvPr/>
        </p:nvSpPr>
        <p:spPr>
          <a:xfrm>
            <a:off x="357120" y="2571840"/>
            <a:ext cx="1928880" cy="2643120"/>
          </a:xfrm>
          <a:prstGeom prst="irregularSeal1">
            <a:avLst/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Explosion 1 6"/>
          <p:cNvSpPr/>
          <p:nvPr/>
        </p:nvSpPr>
        <p:spPr>
          <a:xfrm>
            <a:off x="3500280" y="214200"/>
            <a:ext cx="1928880" cy="2643480"/>
          </a:xfrm>
          <a:prstGeom prst="irregularSeal1">
            <a:avLst/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Explosion 1 7"/>
          <p:cNvSpPr/>
          <p:nvPr/>
        </p:nvSpPr>
        <p:spPr>
          <a:xfrm>
            <a:off x="6786720" y="2214720"/>
            <a:ext cx="1928520" cy="2643120"/>
          </a:xfrm>
          <a:prstGeom prst="irregularSeal1">
            <a:avLst/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3500280" y="4786200"/>
            <a:ext cx="2286000" cy="207180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urved Down Arrow 9"/>
          <p:cNvSpPr/>
          <p:nvPr/>
        </p:nvSpPr>
        <p:spPr>
          <a:xfrm rot="13063800">
            <a:off x="1162080" y="5438520"/>
            <a:ext cx="2225520" cy="823680"/>
          </a:xfrm>
          <a:custGeom>
            <a:avLst/>
            <a:gdLst>
              <a:gd name="textAreaLeft" fmla="*/ 478800 w 2225520"/>
              <a:gd name="textAreaRight" fmla="*/ 1643400 w 2225520"/>
              <a:gd name="textAreaTop" fmla="*/ 110160 h 823680"/>
              <a:gd name="textAreaBottom" fmla="*/ 713520 h 82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00" hR="21600" stAng="10800000" swAng="5400000"/>
                <a:lnTo>
                  <a:pt x="11300" y="0"/>
                </a:lnTo>
                <a:arcTo wR="9300" hR="21600" stAng="-5400000" swAng="3542882"/>
                <a:lnTo>
                  <a:pt x="21305" y="16200"/>
                </a:lnTo>
                <a:lnTo>
                  <a:pt x="19599" y="21600"/>
                </a:lnTo>
                <a:lnTo>
                  <a:pt x="17303" y="16200"/>
                </a:lnTo>
                <a:lnTo>
                  <a:pt x="18304" y="16200"/>
                </a:lnTo>
                <a:arcTo wR="9300" hR="21600" stAng="-1857118" swAng="-3382915"/>
                <a:lnTo>
                  <a:pt x="10300" y="125"/>
                </a:lnTo>
                <a:arcTo wR="9300" hR="21600" stAng="-5559968" swAng="-5240032"/>
                <a:close/>
              </a:path>
              <a:path fill="darkenLess" w="21600" h="21600">
                <a:moveTo>
                  <a:pt x="0" y="21600"/>
                </a:moveTo>
                <a:arcTo wR="9300" hR="21600" stAng="10800000" swAng="5400000"/>
                <a:lnTo>
                  <a:pt x="9300" y="0"/>
                </a:lnTo>
                <a:arcTo wR="9300" hR="21600" stAng="-5400000" swAng="159968"/>
                <a:lnTo>
                  <a:pt x="10300" y="125"/>
                </a:lnTo>
                <a:arcTo wR="9300" hR="21600" stAng="-5559968" swAng="-5240032"/>
                <a:close/>
              </a:path>
            </a:pathLst>
          </a:cu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rved Down Arrow 10"/>
          <p:cNvSpPr/>
          <p:nvPr/>
        </p:nvSpPr>
        <p:spPr>
          <a:xfrm rot="8776800">
            <a:off x="5898600" y="5424120"/>
            <a:ext cx="2338200" cy="857160"/>
          </a:xfrm>
          <a:custGeom>
            <a:avLst/>
            <a:gdLst>
              <a:gd name="textAreaLeft" fmla="*/ 504000 w 2338200"/>
              <a:gd name="textAreaRight" fmla="*/ 1726920 w 23382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16" hR="21600" stAng="10800000" swAng="5400000"/>
                <a:lnTo>
                  <a:pt x="11295" y="0"/>
                </a:lnTo>
                <a:arcTo wR="9316" hR="21600" stAng="-5400000" swAng="3545488"/>
                <a:lnTo>
                  <a:pt x="21304" y="16200"/>
                </a:lnTo>
                <a:lnTo>
                  <a:pt x="19621" y="21600"/>
                </a:lnTo>
                <a:lnTo>
                  <a:pt x="17345" y="16200"/>
                </a:lnTo>
                <a:lnTo>
                  <a:pt x="18335" y="16200"/>
                </a:lnTo>
                <a:arcTo wR="9316" hR="21600" stAng="-1854512" swAng="-3387220"/>
                <a:lnTo>
                  <a:pt x="10305" y="122"/>
                </a:lnTo>
                <a:arcTo wR="9316" hR="21600" stAng="-5558268" swAng="-5241732"/>
                <a:close/>
              </a:path>
              <a:path fill="darkenLess" w="21600" h="21600">
                <a:moveTo>
                  <a:pt x="0" y="21600"/>
                </a:moveTo>
                <a:arcTo wR="9316" hR="21600" stAng="10800000" swAng="5400000"/>
                <a:lnTo>
                  <a:pt x="9316" y="0"/>
                </a:lnTo>
                <a:arcTo wR="9316" hR="21600" stAng="-5400000" swAng="158268"/>
                <a:lnTo>
                  <a:pt x="10305" y="122"/>
                </a:lnTo>
                <a:arcTo wR="9316" hR="21600" stAng="-5558268" swAng="-5241732"/>
                <a:close/>
              </a:path>
            </a:pathLst>
          </a:cu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rved Down Arrow 11"/>
          <p:cNvSpPr/>
          <p:nvPr/>
        </p:nvSpPr>
        <p:spPr>
          <a:xfrm rot="1555800">
            <a:off x="5573520" y="1168200"/>
            <a:ext cx="2271600" cy="857160"/>
          </a:xfrm>
          <a:custGeom>
            <a:avLst/>
            <a:gdLst>
              <a:gd name="textAreaLeft" fmla="*/ 487440 w 2271600"/>
              <a:gd name="textAreaRight" fmla="*/ 1677240 w 22716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72" hR="21600" stAng="10800000" swAng="5400000"/>
                <a:lnTo>
                  <a:pt x="11310" y="0"/>
                </a:lnTo>
                <a:arcTo wR="9272" hR="21600" stAng="-5400000" swAng="3538389"/>
                <a:lnTo>
                  <a:pt x="21306" y="16200"/>
                </a:lnTo>
                <a:lnTo>
                  <a:pt x="19563" y="21600"/>
                </a:lnTo>
                <a:lnTo>
                  <a:pt x="17232" y="16200"/>
                </a:lnTo>
                <a:lnTo>
                  <a:pt x="18250" y="16200"/>
                </a:lnTo>
                <a:arcTo wR="9272" hR="21600" stAng="-1861611" swAng="-3375344"/>
                <a:lnTo>
                  <a:pt x="10291" y="131"/>
                </a:lnTo>
                <a:arcTo wR="9272" hR="21600" stAng="-5563045" swAng="-5236955"/>
                <a:close/>
              </a:path>
              <a:path fill="darkenLess" w="21600" h="21600">
                <a:moveTo>
                  <a:pt x="0" y="21600"/>
                </a:moveTo>
                <a:arcTo wR="9272" hR="21600" stAng="10800000" swAng="5400000"/>
                <a:lnTo>
                  <a:pt x="9272" y="0"/>
                </a:lnTo>
                <a:arcTo wR="9272" hR="21600" stAng="-5400000" swAng="163045"/>
                <a:lnTo>
                  <a:pt x="10291" y="131"/>
                </a:lnTo>
                <a:arcTo wR="9272" hR="21600" stAng="-5563045" swAng="-5236955"/>
                <a:close/>
              </a:path>
            </a:pathLst>
          </a:cu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rved Down Arrow 12"/>
          <p:cNvSpPr/>
          <p:nvPr/>
        </p:nvSpPr>
        <p:spPr>
          <a:xfrm rot="19564800">
            <a:off x="1139760" y="1271160"/>
            <a:ext cx="2482920" cy="744480"/>
          </a:xfrm>
          <a:custGeom>
            <a:avLst/>
            <a:gdLst>
              <a:gd name="textAreaLeft" fmla="*/ 550800 w 2482920"/>
              <a:gd name="textAreaRight" fmla="*/ 1839240 w 2482920"/>
              <a:gd name="textAreaTop" fmla="*/ 99720 h 744480"/>
              <a:gd name="textAreaBottom" fmla="*/ 644760 h 744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8" hR="21600" stAng="10800000" swAng="5400000"/>
                <a:lnTo>
                  <a:pt x="11205" y="0"/>
                </a:lnTo>
                <a:arcTo wR="9588" hR="21600" stAng="-5400000" swAng="3588794"/>
                <a:lnTo>
                  <a:pt x="21296" y="16200"/>
                </a:lnTo>
                <a:lnTo>
                  <a:pt x="19984" y="21600"/>
                </a:lnTo>
                <a:lnTo>
                  <a:pt x="18063" y="16200"/>
                </a:lnTo>
                <a:lnTo>
                  <a:pt x="18871" y="16200"/>
                </a:lnTo>
                <a:arcTo wR="9588" hR="21600" stAng="-1811206" swAng="-3459717"/>
                <a:lnTo>
                  <a:pt x="10396" y="77"/>
                </a:lnTo>
                <a:arcTo wR="9588" hR="21600" stAng="-5529076" swAng="-5270924"/>
                <a:close/>
              </a:path>
              <a:path fill="darkenLess" w="21600" h="21600">
                <a:moveTo>
                  <a:pt x="0" y="21600"/>
                </a:moveTo>
                <a:arcTo wR="9588" hR="21600" stAng="10800000" swAng="5400000"/>
                <a:lnTo>
                  <a:pt x="9588" y="0"/>
                </a:lnTo>
                <a:arcTo wR="9588" hR="21600" stAng="-5400000" swAng="129076"/>
                <a:lnTo>
                  <a:pt x="10396" y="77"/>
                </a:lnTo>
                <a:arcTo wR="9588" hR="21600" stAng="-5529076" swAng="-5270924"/>
                <a:close/>
              </a:path>
            </a:pathLst>
          </a:cu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ction Button: Sound 3">
            <a:hlinkClick r:id="rId1"/>
          </p:cNvPr>
          <p:cNvSpPr/>
          <p:nvPr/>
        </p:nvSpPr>
        <p:spPr>
          <a:xfrm>
            <a:off x="1071720" y="2286000"/>
            <a:ext cx="3000240" cy="3214800"/>
          </a:xfrm>
          <a:custGeom>
            <a:avLst/>
            <a:gdLst>
              <a:gd name="textAreaLeft" fmla="*/ 194400 w 3000240"/>
              <a:gd name="textAreaRight" fmla="*/ 2805840 w 3000240"/>
              <a:gd name="textAreaTop" fmla="*/ 194400 h 3214800"/>
              <a:gd name="textAreaBottom" fmla="*/ 3020400 h 32148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3794" y="9179"/>
                </a:moveTo>
                <a:lnTo>
                  <a:pt x="8224" y="9179"/>
                </a:lnTo>
                <a:lnTo>
                  <a:pt x="12645" y="4566"/>
                </a:lnTo>
                <a:lnTo>
                  <a:pt x="12645" y="18579"/>
                </a:lnTo>
                <a:lnTo>
                  <a:pt x="8224" y="13966"/>
                </a:lnTo>
                <a:lnTo>
                  <a:pt x="3794" y="13966"/>
                </a:lnTo>
                <a:close/>
              </a:path>
              <a:path fill="darken" w="21600" h="23145">
                <a:moveTo>
                  <a:pt x="14299" y="11572"/>
                </a:moveTo>
                <a:lnTo>
                  <a:pt x="17806" y="11572"/>
                </a:lnTo>
              </a:path>
              <a:path fill="darken" w="21600" h="23145">
                <a:moveTo>
                  <a:pt x="14299" y="9179"/>
                </a:moveTo>
                <a:lnTo>
                  <a:pt x="17806" y="6411"/>
                </a:lnTo>
              </a:path>
              <a:path fill="darken" w="21600" h="23145">
                <a:moveTo>
                  <a:pt x="14299" y="13966"/>
                </a:moveTo>
                <a:lnTo>
                  <a:pt x="17806" y="16734"/>
                </a:lnTo>
              </a:path>
            </a:pathLst>
          </a:cu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loud Callout 4"/>
          <p:cNvSpPr/>
          <p:nvPr/>
        </p:nvSpPr>
        <p:spPr>
          <a:xfrm rot="1631400">
            <a:off x="4642920" y="1487520"/>
            <a:ext cx="2428920" cy="121428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 Callout 5"/>
          <p:cNvSpPr/>
          <p:nvPr/>
        </p:nvSpPr>
        <p:spPr>
          <a:xfrm rot="3584400">
            <a:off x="5449320" y="3165480"/>
            <a:ext cx="1774800" cy="156204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loud Callout 6"/>
          <p:cNvSpPr/>
          <p:nvPr/>
        </p:nvSpPr>
        <p:spPr>
          <a:xfrm rot="4725600">
            <a:off x="5206320" y="5119920"/>
            <a:ext cx="1677960" cy="121428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 Callout 3"/>
          <p:cNvSpPr/>
          <p:nvPr/>
        </p:nvSpPr>
        <p:spPr>
          <a:xfrm>
            <a:off x="571680" y="3286080"/>
            <a:ext cx="2286000" cy="1928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 Callout 4"/>
          <p:cNvSpPr/>
          <p:nvPr/>
        </p:nvSpPr>
        <p:spPr>
          <a:xfrm>
            <a:off x="3143160" y="2286000"/>
            <a:ext cx="2428920" cy="2428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loud Callout 5"/>
          <p:cNvSpPr/>
          <p:nvPr/>
        </p:nvSpPr>
        <p:spPr>
          <a:xfrm>
            <a:off x="5786280" y="1071720"/>
            <a:ext cx="3000600" cy="3357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500040" y="5572080"/>
            <a:ext cx="1500120" cy="128592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5500800" y="5072040"/>
            <a:ext cx="1500120" cy="128592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3000240" y="5286240"/>
            <a:ext cx="1500480" cy="128592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2-07T03:36:52Z</dcterms:modified>
  <cp:revision>171</cp:revision>
  <dc:subject/>
  <dc:title>Diapositiva 1</dc:title>
</cp:coreProperties>
</file>