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6B2-8375-4966-A8D2-E8AEF476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7D3-FDB9-46AD-89D6-0E193A88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A68-83CF-48EF-B221-2E4B3358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787-F40B-4AD2-A55A-D982DADD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6C5-ED4D-4FB9-B7C3-9741367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627-835E-4872-B71A-5D6857C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C5B-7F29-4570-860E-C5DDCB8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EAC-FBA1-4142-97BA-B125AEC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7EF-8012-469B-A5F3-318C92F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D7B-BF03-4EF6-8C81-C1E55B5D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65B-FDC9-4184-9CB5-602AF8D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4C3-A0A3-45E2-A574-E3A884D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F7B5-766C-4790-A07D-B517BCD211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5280" y="5157360"/>
            <a:ext cx="60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95280" y="36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0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2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3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8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9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0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1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2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3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18:41Z</dcterms:modified>
  <cp:revision>703</cp:revision>
  <dc:subject/>
  <dc:title>Diapositiva 1</dc:title>
</cp:coreProperties>
</file>