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59A-604D-423E-99E8-C7C7BA6E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22E-8E76-41DE-AFF0-50F71DA4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374-7CC5-47D0-89F9-A43BDB87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68F-A276-4E03-BF8B-C66E4E54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A87-72C8-4A0D-AFC1-DE4BEDC8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A03-9A97-4363-BBCA-E3AE267F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12D9-074D-43A2-9DD1-74628669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5EF-4218-4B0D-85A7-7D9F8873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BC8-8E55-41F0-ACA5-6A292697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998-5316-48BC-803D-CABD1674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105-DF18-4098-BAD1-24EE1D70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F852-24E2-48F8-85C1-C22B00E9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9367-6E2F-4D52-9315-CEBF9AF910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ight Arrow 5"/>
          <p:cNvSpPr/>
          <p:nvPr/>
        </p:nvSpPr>
        <p:spPr>
          <a:xfrm>
            <a:off x="714240" y="157176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ight Arrow 6"/>
          <p:cNvSpPr/>
          <p:nvPr/>
        </p:nvSpPr>
        <p:spPr>
          <a:xfrm>
            <a:off x="357120" y="428760"/>
            <a:ext cx="4286160" cy="1357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ight Arrow 7"/>
          <p:cNvSpPr/>
          <p:nvPr/>
        </p:nvSpPr>
        <p:spPr>
          <a:xfrm>
            <a:off x="1000080" y="2857680"/>
            <a:ext cx="4286160" cy="1357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ight Arrow 8"/>
          <p:cNvSpPr/>
          <p:nvPr/>
        </p:nvSpPr>
        <p:spPr>
          <a:xfrm>
            <a:off x="1214280" y="407196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ight Arrow 9"/>
          <p:cNvSpPr/>
          <p:nvPr/>
        </p:nvSpPr>
        <p:spPr>
          <a:xfrm>
            <a:off x="1857240" y="550080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4643280" y="428760"/>
            <a:ext cx="2428920" cy="1000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5000760" y="1643040"/>
            <a:ext cx="2428920" cy="1000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215040" y="5643720"/>
            <a:ext cx="2428920" cy="1000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5572080" y="4143240"/>
            <a:ext cx="2428920" cy="100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5357880" y="2857680"/>
            <a:ext cx="2428920" cy="1000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ube 5"/>
          <p:cNvSpPr/>
          <p:nvPr/>
        </p:nvSpPr>
        <p:spPr>
          <a:xfrm>
            <a:off x="2071800" y="1285920"/>
            <a:ext cx="2571480" cy="19288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be 6"/>
          <p:cNvSpPr/>
          <p:nvPr/>
        </p:nvSpPr>
        <p:spPr>
          <a:xfrm>
            <a:off x="4286160" y="4572000"/>
            <a:ext cx="2571840" cy="19288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be 7"/>
          <p:cNvSpPr/>
          <p:nvPr/>
        </p:nvSpPr>
        <p:spPr>
          <a:xfrm>
            <a:off x="5715000" y="1357200"/>
            <a:ext cx="2571840" cy="1928880"/>
          </a:xfrm>
          <a:prstGeom prst="cube">
            <a:avLst>
              <a:gd name="adj" fmla="val 25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eft-Up Arrow 8"/>
          <p:cNvSpPr/>
          <p:nvPr/>
        </p:nvSpPr>
        <p:spPr>
          <a:xfrm rot="1677600">
            <a:off x="3919320" y="2887200"/>
            <a:ext cx="2317680" cy="1451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5"/>
          <p:cNvSpPr/>
          <p:nvPr/>
        </p:nvSpPr>
        <p:spPr>
          <a:xfrm>
            <a:off x="357120" y="114300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6"/>
          <p:cNvSpPr/>
          <p:nvPr/>
        </p:nvSpPr>
        <p:spPr>
          <a:xfrm>
            <a:off x="3286080" y="114300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7"/>
          <p:cNvSpPr/>
          <p:nvPr/>
        </p:nvSpPr>
        <p:spPr>
          <a:xfrm>
            <a:off x="6215040" y="107172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8"/>
          <p:cNvSpPr/>
          <p:nvPr/>
        </p:nvSpPr>
        <p:spPr>
          <a:xfrm>
            <a:off x="1214280" y="5500800"/>
            <a:ext cx="1857600" cy="10000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9"/>
          <p:cNvSpPr/>
          <p:nvPr/>
        </p:nvSpPr>
        <p:spPr>
          <a:xfrm>
            <a:off x="3786120" y="5357880"/>
            <a:ext cx="1857600" cy="10000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10"/>
          <p:cNvSpPr/>
          <p:nvPr/>
        </p:nvSpPr>
        <p:spPr>
          <a:xfrm>
            <a:off x="6572160" y="5286240"/>
            <a:ext cx="1857600" cy="10004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own Arrow 11"/>
          <p:cNvSpPr/>
          <p:nvPr/>
        </p:nvSpPr>
        <p:spPr>
          <a:xfrm>
            <a:off x="4000680" y="2857680"/>
            <a:ext cx="1000080" cy="214308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c0000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radan2</cp:lastModifiedBy>
  <dcterms:modified xsi:type="dcterms:W3CDTF">2016-02-07T06:11:19Z</dcterms:modified>
  <cp:revision>17</cp:revision>
  <dc:subject/>
  <dc:title>Texto</dc:title>
</cp:coreProperties>
</file>