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DE4-E848-4354-93DA-821DCE8F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FF4-519A-4776-8204-717284D9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1AA-412A-4553-8EF2-1B643697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B5C-776D-4CC5-BFD8-FA705C48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424-E4C1-4447-B215-08D5AED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34E-0055-46FA-B77D-A296BACE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011-6D61-4C82-A370-B1547F4B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2AD-4081-4D4C-BDAA-57CA9C2D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A13-FBD9-4D47-B3C9-76748EE2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16C-80B3-462F-87E4-4A83E28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C62-14C5-4B40-827F-971A952C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9BE-6196-49CD-BCE3-CC661AEF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7E60-243E-40DE-972E-18E9B31CA4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5445000"/>
            <a:ext cx="4606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44364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07220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1"/>
          <p:cNvSpPr/>
          <p:nvPr/>
        </p:nvSpPr>
        <p:spPr>
          <a:xfrm>
            <a:off x="707220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12"/>
          <p:cNvSpPr/>
          <p:nvPr/>
        </p:nvSpPr>
        <p:spPr>
          <a:xfrm>
            <a:off x="707220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3"/>
          <p:cNvSpPr/>
          <p:nvPr/>
        </p:nvSpPr>
        <p:spPr>
          <a:xfrm>
            <a:off x="707220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4"/>
          <p:cNvSpPr/>
          <p:nvPr/>
        </p:nvSpPr>
        <p:spPr>
          <a:xfrm>
            <a:off x="707220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5"/>
          <p:cNvSpPr/>
          <p:nvPr/>
        </p:nvSpPr>
        <p:spPr>
          <a:xfrm>
            <a:off x="7072200" y="5072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6"/>
          <p:cNvSpPr/>
          <p:nvPr/>
        </p:nvSpPr>
        <p:spPr>
          <a:xfrm>
            <a:off x="707220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10:06:47Z</dcterms:modified>
  <cp:revision>721</cp:revision>
  <dc:subject/>
  <dc:title>Diapositiva 1</dc:title>
</cp:coreProperties>
</file>