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83B-3015-4A33-9788-EB1E7987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23A-E387-4A8C-9868-691359B7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FB1-14D1-4C19-919A-690A45B7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E3D-5B33-4BF6-B80C-18C17223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17C-16F3-4BFB-80FD-D4105F60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B9C-4AA6-47B3-9956-699A17FE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9B3-685D-49F9-A586-43B7321B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81D-4DE9-4D79-A803-F2C928A9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6DA-C823-4234-B44C-10C850B9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F3E-AA10-4E2B-87E3-D94A00FA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615-4058-4A05-A355-5DE6CAC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48E-0457-42DF-A5BE-AABC4BBC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DF88-6849-4B14-955B-D73FEC9873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581360"/>
            <a:ext cx="4537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7"/>
          <p:cNvSpPr/>
          <p:nvPr/>
        </p:nvSpPr>
        <p:spPr>
          <a:xfrm>
            <a:off x="250920" y="522936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7093080" y="62294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be 5"/>
          <p:cNvSpPr/>
          <p:nvPr/>
        </p:nvSpPr>
        <p:spPr>
          <a:xfrm>
            <a:off x="2071800" y="1285920"/>
            <a:ext cx="2571480" cy="192888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be 6"/>
          <p:cNvSpPr/>
          <p:nvPr/>
        </p:nvSpPr>
        <p:spPr>
          <a:xfrm>
            <a:off x="4286160" y="4572000"/>
            <a:ext cx="2571840" cy="192888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be 7"/>
          <p:cNvSpPr/>
          <p:nvPr/>
        </p:nvSpPr>
        <p:spPr>
          <a:xfrm>
            <a:off x="5715000" y="1357200"/>
            <a:ext cx="2571840" cy="192888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eft-Up Arrow 8"/>
          <p:cNvSpPr/>
          <p:nvPr/>
        </p:nvSpPr>
        <p:spPr>
          <a:xfrm rot="1677600">
            <a:off x="3919320" y="2887200"/>
            <a:ext cx="2317680" cy="1451160"/>
          </a:xfrm>
          <a:custGeom>
            <a:avLst/>
            <a:gdLst/>
            <a:ahLst/>
            <a:rect l="l" t="t" r="r" b="b"/>
            <a:pathLst>
              <a:path w="2317363" h="1451491">
                <a:moveTo>
                  <a:pt x="0" y="1088618"/>
                </a:moveTo>
                <a:lnTo>
                  <a:pt x="362873" y="725746"/>
                </a:lnTo>
                <a:lnTo>
                  <a:pt x="362873" y="907182"/>
                </a:lnTo>
                <a:lnTo>
                  <a:pt x="1773054" y="907182"/>
                </a:lnTo>
                <a:lnTo>
                  <a:pt x="1773054" y="362873"/>
                </a:lnTo>
                <a:lnTo>
                  <a:pt x="1591618" y="362873"/>
                </a:lnTo>
                <a:lnTo>
                  <a:pt x="1954490" y="0"/>
                </a:lnTo>
                <a:lnTo>
                  <a:pt x="2317363" y="362873"/>
                </a:lnTo>
                <a:lnTo>
                  <a:pt x="2135927" y="362873"/>
                </a:lnTo>
                <a:lnTo>
                  <a:pt x="2135927" y="1270055"/>
                </a:lnTo>
                <a:lnTo>
                  <a:pt x="362873" y="1270055"/>
                </a:lnTo>
                <a:lnTo>
                  <a:pt x="362873" y="1451491"/>
                </a:lnTo>
                <a:lnTo>
                  <a:pt x="0" y="1088618"/>
                </a:lnTo>
                <a:close/>
              </a:path>
            </a:pathLst>
          </a:cu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57160" y="5000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57160" y="27860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572160" y="42876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643200" y="42876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715080" y="478620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857760" y="492912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857160" y="492912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643800" y="25718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3643200" y="2714760"/>
            <a:ext cx="2357640" cy="16430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2"/>
          <p:cNvSpPr/>
          <p:nvPr/>
        </p:nvSpPr>
        <p:spPr>
          <a:xfrm>
            <a:off x="3143160" y="142884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13"/>
          <p:cNvSpPr/>
          <p:nvPr/>
        </p:nvSpPr>
        <p:spPr>
          <a:xfrm>
            <a:off x="3286080" y="578628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14"/>
          <p:cNvSpPr/>
          <p:nvPr/>
        </p:nvSpPr>
        <p:spPr>
          <a:xfrm>
            <a:off x="6000840" y="142884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5"/>
          <p:cNvSpPr/>
          <p:nvPr/>
        </p:nvSpPr>
        <p:spPr>
          <a:xfrm>
            <a:off x="6286680" y="557208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own Arrow 16"/>
          <p:cNvSpPr/>
          <p:nvPr/>
        </p:nvSpPr>
        <p:spPr>
          <a:xfrm>
            <a:off x="7286760" y="21430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7"/>
          <p:cNvSpPr/>
          <p:nvPr/>
        </p:nvSpPr>
        <p:spPr>
          <a:xfrm rot="5400000">
            <a:off x="7179480" y="425052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18"/>
          <p:cNvSpPr/>
          <p:nvPr/>
        </p:nvSpPr>
        <p:spPr>
          <a:xfrm rot="5400000">
            <a:off x="2356200" y="442980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9"/>
          <p:cNvSpPr/>
          <p:nvPr/>
        </p:nvSpPr>
        <p:spPr>
          <a:xfrm rot="5164200">
            <a:off x="2037960" y="2139840"/>
            <a:ext cx="419040" cy="609480"/>
          </a:xfrm>
          <a:prstGeom prst="rightArrow">
            <a:avLst>
              <a:gd name="adj1" fmla="val 50000"/>
              <a:gd name="adj2" fmla="val 5407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Quad Arrow Callout 3"/>
          <p:cNvSpPr/>
          <p:nvPr/>
        </p:nvSpPr>
        <p:spPr>
          <a:xfrm>
            <a:off x="3214800" y="1785960"/>
            <a:ext cx="2928960" cy="328608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1143000" y="2786040"/>
            <a:ext cx="2000160" cy="1571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643200" y="5286240"/>
            <a:ext cx="2000520" cy="1571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6286680" y="2571840"/>
            <a:ext cx="2000160" cy="15714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3571920" y="214200"/>
            <a:ext cx="2000160" cy="1571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10T01:11:53Z</dcterms:modified>
  <cp:revision>758</cp:revision>
  <dc:subject/>
  <dc:title>Diapositiva 1</dc:title>
</cp:coreProperties>
</file>