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6CA-0D56-4D33-BDFE-31BB0F57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D7A-2079-4A87-8C99-C38861A9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0B4-9671-47B4-9BAB-CC25B045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852-88B0-4847-9FD5-1ED57177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5C5-E34B-4186-A5AA-A3DA3F83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49D-F031-4276-9741-FCF94BD6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6FB-4CB5-4A69-82A8-C2309F4C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630-BF45-4636-BB46-9CD5AE0C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94F-4C27-4FCD-83DA-3B11E43D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949-3BB7-4ED4-8996-218C3AD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2A3-8844-4CDD-8235-18E855A9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069-941F-482A-B338-1E8B021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5DD9-09AA-4093-BC70-B2536CB79C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28840" y="564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lowchart: Extract 3"/>
          <p:cNvSpPr/>
          <p:nvPr/>
        </p:nvSpPr>
        <p:spPr>
          <a:xfrm>
            <a:off x="3357720" y="4214880"/>
            <a:ext cx="2286000" cy="1643040"/>
          </a:xfrm>
          <a:prstGeom prst="flowChartExtra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inus 4"/>
          <p:cNvSpPr/>
          <p:nvPr/>
        </p:nvSpPr>
        <p:spPr>
          <a:xfrm rot="319800">
            <a:off x="500040" y="3785760"/>
            <a:ext cx="8358120" cy="571680"/>
          </a:xfrm>
          <a:prstGeom prst="pi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5"/>
          <p:cNvSpPr/>
          <p:nvPr/>
        </p:nvSpPr>
        <p:spPr>
          <a:xfrm rot="412200">
            <a:off x="1714680" y="321444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 rot="412200">
            <a:off x="180180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7"/>
          <p:cNvSpPr/>
          <p:nvPr/>
        </p:nvSpPr>
        <p:spPr>
          <a:xfrm rot="412200">
            <a:off x="1873080" y="2222280"/>
            <a:ext cx="135756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 rot="412200">
            <a:off x="6373800" y="222228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9"/>
          <p:cNvSpPr/>
          <p:nvPr/>
        </p:nvSpPr>
        <p:spPr>
          <a:xfrm rot="412200">
            <a:off x="630252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0"/>
          <p:cNvSpPr/>
          <p:nvPr/>
        </p:nvSpPr>
        <p:spPr>
          <a:xfrm rot="412200">
            <a:off x="6230880" y="32223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1"/>
          <p:cNvSpPr/>
          <p:nvPr/>
        </p:nvSpPr>
        <p:spPr>
          <a:xfrm rot="412200">
            <a:off x="6159600" y="372240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960200"/>
            <a:ext cx="8642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3"/>
          <p:cNvSpPr/>
          <p:nvPr/>
        </p:nvSpPr>
        <p:spPr>
          <a:xfrm>
            <a:off x="1214280" y="1643040"/>
            <a:ext cx="65660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4167360" y="1697040"/>
            <a:ext cx="785520" cy="1071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4167360" y="2840040"/>
            <a:ext cx="785520" cy="1071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4238640" y="3983040"/>
            <a:ext cx="785880" cy="1071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4238640" y="5126040"/>
            <a:ext cx="785880" cy="1071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10"/>
          <p:cNvSpPr/>
          <p:nvPr/>
        </p:nvSpPr>
        <p:spPr>
          <a:xfrm>
            <a:off x="6381720" y="2268360"/>
            <a:ext cx="1143000" cy="36435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560"/>
              <a:gd name="textAreaBottom" fmla="*/ 3587760 h 3643560"/>
            </a:gdLst>
            <a:ahLst/>
            <a:rect l="textAreaLeft" t="textAreaTop" r="textAreaRight" b="textAreaBottom"/>
            <a:pathLst>
              <a:path w="21600" h="68840">
                <a:moveTo>
                  <a:pt x="3600" y="0"/>
                </a:moveTo>
                <a:arcTo wR="3600" hR="3600" stAng="16200000" swAng="-5400000"/>
                <a:lnTo>
                  <a:pt x="0" y="65240"/>
                </a:lnTo>
                <a:arcTo wR="3600" hR="3600" stAng="10800000" swAng="-5400000"/>
                <a:lnTo>
                  <a:pt x="18000" y="68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11"/>
          <p:cNvSpPr/>
          <p:nvPr/>
        </p:nvSpPr>
        <p:spPr>
          <a:xfrm>
            <a:off x="1952640" y="2268360"/>
            <a:ext cx="1143000" cy="36435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560"/>
              <a:gd name="textAreaBottom" fmla="*/ 3587760 h 3643560"/>
            </a:gdLst>
            <a:ahLst/>
            <a:rect l="textAreaLeft" t="textAreaTop" r="textAreaRight" b="textAreaBottom"/>
            <a:pathLst>
              <a:path w="21600" h="68840">
                <a:moveTo>
                  <a:pt x="3600" y="0"/>
                </a:moveTo>
                <a:arcTo wR="3600" hR="3600" stAng="16200000" swAng="-5400000"/>
                <a:lnTo>
                  <a:pt x="0" y="65240"/>
                </a:lnTo>
                <a:arcTo wR="3600" hR="3600" stAng="10800000" swAng="-5400000"/>
                <a:lnTo>
                  <a:pt x="18000" y="68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Arrow 12"/>
          <p:cNvSpPr/>
          <p:nvPr/>
        </p:nvSpPr>
        <p:spPr>
          <a:xfrm flipV="1" rot="20424000">
            <a:off x="3169800" y="2413080"/>
            <a:ext cx="890640" cy="172800"/>
          </a:xfrm>
          <a:prstGeom prst="rightArrow">
            <a:avLst>
              <a:gd name="adj1" fmla="val 50000"/>
              <a:gd name="adj2" fmla="val 503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13"/>
          <p:cNvSpPr/>
          <p:nvPr/>
        </p:nvSpPr>
        <p:spPr>
          <a:xfrm flipV="1">
            <a:off x="3166920" y="3339360"/>
            <a:ext cx="890640" cy="173160"/>
          </a:xfrm>
          <a:prstGeom prst="rightArrow">
            <a:avLst>
              <a:gd name="adj1" fmla="val 50000"/>
              <a:gd name="adj2" fmla="val 502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14"/>
          <p:cNvSpPr/>
          <p:nvPr/>
        </p:nvSpPr>
        <p:spPr>
          <a:xfrm flipV="1">
            <a:off x="3238560" y="4339440"/>
            <a:ext cx="890640" cy="173160"/>
          </a:xfrm>
          <a:prstGeom prst="rightArrow">
            <a:avLst>
              <a:gd name="adj1" fmla="val 50000"/>
              <a:gd name="adj2" fmla="val 502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15"/>
          <p:cNvSpPr/>
          <p:nvPr/>
        </p:nvSpPr>
        <p:spPr>
          <a:xfrm flipV="1">
            <a:off x="3238560" y="5482440"/>
            <a:ext cx="890640" cy="173160"/>
          </a:xfrm>
          <a:prstGeom prst="rightArrow">
            <a:avLst>
              <a:gd name="adj1" fmla="val 50000"/>
              <a:gd name="adj2" fmla="val 502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16"/>
          <p:cNvSpPr/>
          <p:nvPr/>
        </p:nvSpPr>
        <p:spPr>
          <a:xfrm flipV="1">
            <a:off x="5167440" y="3268800"/>
            <a:ext cx="890640" cy="172800"/>
          </a:xfrm>
          <a:prstGeom prst="rightArrow">
            <a:avLst>
              <a:gd name="adj1" fmla="val 50000"/>
              <a:gd name="adj2" fmla="val 503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7"/>
          <p:cNvSpPr/>
          <p:nvPr/>
        </p:nvSpPr>
        <p:spPr>
          <a:xfrm flipV="1">
            <a:off x="5167440" y="4411800"/>
            <a:ext cx="890640" cy="172800"/>
          </a:xfrm>
          <a:prstGeom prst="rightArrow">
            <a:avLst>
              <a:gd name="adj1" fmla="val 50000"/>
              <a:gd name="adj2" fmla="val 503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8"/>
          <p:cNvSpPr/>
          <p:nvPr/>
        </p:nvSpPr>
        <p:spPr>
          <a:xfrm flipV="1">
            <a:off x="5238720" y="5482440"/>
            <a:ext cx="890640" cy="173160"/>
          </a:xfrm>
          <a:prstGeom prst="rightArrow">
            <a:avLst>
              <a:gd name="adj1" fmla="val 50000"/>
              <a:gd name="adj2" fmla="val 502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19"/>
          <p:cNvSpPr/>
          <p:nvPr/>
        </p:nvSpPr>
        <p:spPr>
          <a:xfrm flipV="1" rot="525000">
            <a:off x="5103720" y="2262960"/>
            <a:ext cx="890640" cy="173160"/>
          </a:xfrm>
          <a:prstGeom prst="rightArrow">
            <a:avLst>
              <a:gd name="adj1" fmla="val 50000"/>
              <a:gd name="adj2" fmla="val 502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960200"/>
            <a:ext cx="8642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5"/>
          <p:cNvSpPr/>
          <p:nvPr/>
        </p:nvSpPr>
        <p:spPr>
          <a:xfrm>
            <a:off x="428760" y="2214720"/>
            <a:ext cx="2857320" cy="3286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eft Arrow 6"/>
          <p:cNvSpPr/>
          <p:nvPr/>
        </p:nvSpPr>
        <p:spPr>
          <a:xfrm>
            <a:off x="5643720" y="1928880"/>
            <a:ext cx="2577960" cy="3714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que 7"/>
          <p:cNvSpPr/>
          <p:nvPr/>
        </p:nvSpPr>
        <p:spPr>
          <a:xfrm>
            <a:off x="3500280" y="2214720"/>
            <a:ext cx="1881360" cy="3357360"/>
          </a:xfrm>
          <a:custGeom>
            <a:avLst/>
            <a:gdLst>
              <a:gd name="textAreaLeft" fmla="*/ 221760 w 1881360"/>
              <a:gd name="textAreaRight" fmla="*/ 1659600 w 1881360"/>
              <a:gd name="textAreaTop" fmla="*/ 221760 h 3357360"/>
              <a:gd name="textAreaBottom" fmla="*/ 3135600 h 3357360"/>
            </a:gdLst>
            <a:ahLst/>
            <a:rect l="textAreaLeft" t="textAreaTop" r="textAreaRight" b="textAreaBottom"/>
            <a:pathLst>
              <a:path w="21600" h="38543">
                <a:moveTo>
                  <a:pt x="3600" y="0"/>
                </a:moveTo>
                <a:arcTo wR="3600" hR="3600" stAng="0" swAng="5400000"/>
                <a:lnTo>
                  <a:pt x="0" y="34943"/>
                </a:lnTo>
                <a:arcTo wR="3600" hR="3600" stAng="16200000" swAng="5400000"/>
                <a:lnTo>
                  <a:pt x="18000" y="3854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960200"/>
            <a:ext cx="8642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radan2</cp:lastModifiedBy>
  <dcterms:modified xsi:type="dcterms:W3CDTF">2016-02-14T16:29:25Z</dcterms:modified>
  <cp:revision>62</cp:revision>
  <dc:subject/>
  <dc:title>Texto</dc:title>
</cp:coreProperties>
</file>