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0EB1-D512-4E8D-A827-465E0F7E8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A8E0-6825-47E5-81EF-4714E125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B9AF-74FF-4AA7-886B-9F4ADA340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407F-AF07-4284-92DA-F4ECD8670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87B2-9B97-453A-A0CD-F24B1530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E9C7-A665-4CF4-A1E6-0B566CB5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BD82-6106-42BC-99D0-2CF1A69C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3B60-B141-45A3-A73C-BE3EFA3A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89D5-F1B5-4AB6-A522-28C16036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2CD8-0109-4458-AE8E-98C594B5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2E3E-8631-4B85-94E2-C4C0C56D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6687-B79D-46AD-80DA-2BE48465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7396-62E0-414D-AA71-303C29A5E95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9"/>
          <p:cNvSpPr/>
          <p:nvPr/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0"/>
          <p:cNvSpPr/>
          <p:nvPr/>
        </p:nvSpPr>
        <p:spPr>
          <a:xfrm>
            <a:off x="140328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932360" y="5950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</cp:lastModifiedBy>
  <dcterms:modified xsi:type="dcterms:W3CDTF">2009-10-08T06:48:32Z</dcterms:modified>
  <cp:revision>47</cp:revision>
  <dc:subject/>
  <dc:title>Diapositiva 1</dc:title>
</cp:coreProperties>
</file>