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B40-5E5A-4C95-9B38-B59465AE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B47-3028-4AB7-9F8B-A4D5425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23B-C52A-42BE-B3CA-E53F83B5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4E1-99E5-4499-B1C9-5BF7017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689-DED9-4DDE-B307-EEB1FA7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411-B28D-47E3-97EA-1661FC9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AAA-0DA0-4D1F-B516-CA91AA49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1DB-B3AA-41B3-8B05-C55F435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6E0-2C93-4959-8BB9-6C2EA4A8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455-D4FA-4305-A634-D296AA2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45D-2833-466B-917B-E6D21BE0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EDF-8E7E-4401-A916-3CE219E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D85-845C-4D31-8339-A1AEC79402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3"/>
          <p:cNvSpPr/>
          <p:nvPr/>
        </p:nvSpPr>
        <p:spPr>
          <a:xfrm>
            <a:off x="324000" y="472428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7"/>
          <p:cNvSpPr/>
          <p:nvPr/>
        </p:nvSpPr>
        <p:spPr>
          <a:xfrm>
            <a:off x="324000" y="5373720"/>
            <a:ext cx="53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7120" y="20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916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1" hR="21600" stAng="10800000" swAng="5400000"/>
                <a:lnTo>
                  <a:pt x="11301" y="0"/>
                </a:lnTo>
                <a:arcTo wR="9301" hR="21600" stAng="-5400000" swAng="3543046"/>
                <a:lnTo>
                  <a:pt x="21305" y="16200"/>
                </a:lnTo>
                <a:lnTo>
                  <a:pt x="19601" y="21600"/>
                </a:lnTo>
                <a:lnTo>
                  <a:pt x="17307" y="16200"/>
                </a:lnTo>
                <a:lnTo>
                  <a:pt x="18306" y="16200"/>
                </a:lnTo>
                <a:arcTo wR="9301" hR="21600" stAng="-1856954" swAng="-3383078"/>
                <a:lnTo>
                  <a:pt x="10301" y="125"/>
                </a:lnTo>
                <a:arcTo wR="9301" hR="21600" stAng="-5559967" swAng="-5240033"/>
                <a:close/>
              </a:path>
              <a:path fill="darkenLess" w="21600" h="21600">
                <a:moveTo>
                  <a:pt x="0" y="21600"/>
                </a:moveTo>
                <a:arcTo wR="9301" hR="21600" stAng="10800000" swAng="5400000"/>
                <a:lnTo>
                  <a:pt x="9301" y="0"/>
                </a:lnTo>
                <a:arcTo wR="9301" hR="21600" stAng="-5400000" swAng="159967"/>
                <a:lnTo>
                  <a:pt x="10301" y="125"/>
                </a:lnTo>
                <a:arcTo wR="9301" hR="21600" stAng="-5559967" swAng="-524003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688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09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1" y="16200"/>
                </a:lnTo>
                <a:lnTo>
                  <a:pt x="18250" y="16200"/>
                </a:lnTo>
                <a:arcTo wR="9272" hR="21600" stAng="-1861611" swAng="-3375425"/>
                <a:lnTo>
                  <a:pt x="10291" y="131"/>
                </a:lnTo>
                <a:arcTo wR="9272" hR="21600" stAng="-5562964" swAng="-5237036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2964"/>
                <a:lnTo>
                  <a:pt x="10291" y="131"/>
                </a:lnTo>
                <a:arcTo wR="9272" hR="21600" stAng="-5562964" swAng="-5237036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888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6" hR="21600" stAng="10800000" swAng="5400000"/>
                <a:lnTo>
                  <a:pt x="11205" y="0"/>
                </a:lnTo>
                <a:arcTo wR="9586" hR="21600" stAng="-5400000" swAng="3588482"/>
                <a:lnTo>
                  <a:pt x="21296" y="16200"/>
                </a:lnTo>
                <a:lnTo>
                  <a:pt x="19981" y="21600"/>
                </a:lnTo>
                <a:lnTo>
                  <a:pt x="18057" y="16200"/>
                </a:lnTo>
                <a:lnTo>
                  <a:pt x="18867" y="16200"/>
                </a:lnTo>
                <a:arcTo wR="9586" hR="21600" stAng="-1811518" swAng="-3459245"/>
                <a:lnTo>
                  <a:pt x="10395" y="77"/>
                </a:lnTo>
                <a:arcTo wR="9586" hR="21600" stAng="-5529237" swAng="-5270763"/>
                <a:close/>
              </a:path>
              <a:path fill="darkenLess" w="21600" h="21600">
                <a:moveTo>
                  <a:pt x="0" y="21600"/>
                </a:moveTo>
                <a:arcTo wR="9586" hR="21600" stAng="10800000" swAng="5400000"/>
                <a:lnTo>
                  <a:pt x="9586" y="0"/>
                </a:lnTo>
                <a:arcTo wR="9586" hR="21600" stAng="-5400000" swAng="129237"/>
                <a:lnTo>
                  <a:pt x="10395" y="77"/>
                </a:lnTo>
                <a:arcTo wR="9586" hR="21600" stAng="-5529237" swAng="-527076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inus 4"/>
          <p:cNvSpPr/>
          <p:nvPr/>
        </p:nvSpPr>
        <p:spPr>
          <a:xfrm rot="319800">
            <a:off x="500040" y="3785760"/>
            <a:ext cx="8358120" cy="571680"/>
          </a:xfrm>
          <a:custGeom>
            <a:avLst/>
            <a:gdLst/>
            <a:ahLst/>
            <a:rect l="l" t="t" r="r" b="b"/>
            <a:pathLst>
              <a:path w="8358187" h="571500">
                <a:moveTo>
                  <a:pt x="1107878" y="218542"/>
                </a:moveTo>
                <a:lnTo>
                  <a:pt x="7250309" y="218542"/>
                </a:lnTo>
                <a:lnTo>
                  <a:pt x="7250309" y="352958"/>
                </a:lnTo>
                <a:lnTo>
                  <a:pt x="1107878" y="352958"/>
                </a:lnTo>
                <a:lnTo>
                  <a:pt x="1107878" y="21854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24:04Z</dcterms:modified>
  <cp:revision>788</cp:revision>
  <dc:subject/>
  <dc:title>Diapositiva 1</dc:title>
</cp:coreProperties>
</file>