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38B-C14C-4C96-A24B-4999A64E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A57-1FA4-4813-B5F8-C351A3D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78A-EE15-45F4-9CBC-71037B68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896-2C52-4DA4-8FB2-7B632D72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690-2317-4FD0-AD7C-9DA5F94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5FD-B74C-4DE7-B2C6-2BBECD3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214-72E7-4A7E-9F72-DF66287B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BAB-BFAA-4074-91F1-A42D35D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88C-B12E-4599-AF3D-9B3A5B5F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626-8F04-49EA-B813-233B03E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5E8-8748-4251-8681-057D3D5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0F3-CCB4-4E3B-89A8-F49B2B0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CE3-149E-4D4D-A767-CA23C362FB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3428640"/>
            <a:ext cx="4861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2411280" y="4076640"/>
            <a:ext cx="51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28592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5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us 8"/>
          <p:cNvSpPr/>
          <p:nvPr/>
        </p:nvSpPr>
        <p:spPr>
          <a:xfrm>
            <a:off x="2286000" y="3143160"/>
            <a:ext cx="928800" cy="642960"/>
          </a:xfrm>
          <a:custGeom>
            <a:avLst/>
            <a:gdLst/>
            <a:ahLst/>
            <a:rect l="l" t="t" r="r" b="b"/>
            <a:pathLst>
              <a:path w="928688" h="642938">
                <a:moveTo>
                  <a:pt x="123098" y="245859"/>
                </a:moveTo>
                <a:lnTo>
                  <a:pt x="388734" y="245859"/>
                </a:lnTo>
                <a:lnTo>
                  <a:pt x="388734" y="85221"/>
                </a:lnTo>
                <a:lnTo>
                  <a:pt x="539954" y="85221"/>
                </a:lnTo>
                <a:lnTo>
                  <a:pt x="539954" y="245859"/>
                </a:lnTo>
                <a:lnTo>
                  <a:pt x="805590" y="245859"/>
                </a:lnTo>
                <a:lnTo>
                  <a:pt x="805590" y="397079"/>
                </a:lnTo>
                <a:lnTo>
                  <a:pt x="539954" y="397079"/>
                </a:lnTo>
                <a:lnTo>
                  <a:pt x="539954" y="557717"/>
                </a:lnTo>
                <a:lnTo>
                  <a:pt x="388734" y="557717"/>
                </a:lnTo>
                <a:lnTo>
                  <a:pt x="388734" y="397079"/>
                </a:lnTo>
                <a:lnTo>
                  <a:pt x="123098" y="397079"/>
                </a:lnTo>
                <a:lnTo>
                  <a:pt x="123098" y="24585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qual 9"/>
          <p:cNvSpPr/>
          <p:nvPr/>
        </p:nvSpPr>
        <p:spPr>
          <a:xfrm>
            <a:off x="4929120" y="3000240"/>
            <a:ext cx="1571760" cy="1000440"/>
          </a:xfrm>
          <a:custGeom>
            <a:avLst/>
            <a:gdLst/>
            <a:ahLst/>
            <a:rect l="l" t="t" r="r" b="b"/>
            <a:pathLst>
              <a:path w="1571625" h="1000125">
                <a:moveTo>
                  <a:pt x="208319" y="206026"/>
                </a:moveTo>
                <a:lnTo>
                  <a:pt x="1363306" y="206026"/>
                </a:lnTo>
                <a:lnTo>
                  <a:pt x="1363306" y="441255"/>
                </a:lnTo>
                <a:lnTo>
                  <a:pt x="208319" y="441255"/>
                </a:lnTo>
                <a:lnTo>
                  <a:pt x="208319" y="206026"/>
                </a:lnTo>
                <a:close/>
                <a:moveTo>
                  <a:pt x="208319" y="558870"/>
                </a:moveTo>
                <a:lnTo>
                  <a:pt x="1363306" y="558870"/>
                </a:lnTo>
                <a:lnTo>
                  <a:pt x="1363306" y="794099"/>
                </a:lnTo>
                <a:lnTo>
                  <a:pt x="208319" y="794099"/>
                </a:lnTo>
                <a:lnTo>
                  <a:pt x="208319" y="55887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13:36Z</dcterms:modified>
  <cp:revision>662</cp:revision>
  <dc:subject/>
  <dc:title>Diapositiva 1</dc:title>
</cp:coreProperties>
</file>