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CD2-5E1A-460E-8BC9-06F4CB7E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C44-9A39-41CB-92D3-DB397294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02A-A823-418C-B510-EFB244F1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463-B2EE-4E4E-AE13-3CD8F7B0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D06-2714-4371-BF45-DC7F6280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120-B9D3-4958-A575-E2437670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EBF-6D96-435F-BA2E-6E678BEE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27D-AF7D-4ADD-9589-91BB9A13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C93-8098-4B31-8B9D-70593FF8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73E4-BC65-45F2-81F8-56767E3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D89-95A6-4AA4-8B5C-1120171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13E-E677-43A1-BDF5-E0A3E0E5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F253-C7C5-490B-B0A1-ABC8E43D94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407628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486864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urved Down Arrow 5"/>
          <p:cNvSpPr/>
          <p:nvPr/>
        </p:nvSpPr>
        <p:spPr>
          <a:xfrm rot="15951000">
            <a:off x="1764360" y="2856240"/>
            <a:ext cx="2428920" cy="107136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360"/>
              <a:gd name="textAreaBottom" fmla="*/ 92808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rved Down Arrow 6"/>
          <p:cNvSpPr/>
          <p:nvPr/>
        </p:nvSpPr>
        <p:spPr>
          <a:xfrm rot="10965000">
            <a:off x="4046040" y="5436360"/>
            <a:ext cx="2651400" cy="762120"/>
          </a:xfrm>
          <a:custGeom>
            <a:avLst/>
            <a:gdLst>
              <a:gd name="textAreaLeft" fmla="*/ 591480 w 2651400"/>
              <a:gd name="textAreaRight" fmla="*/ 1964880 w 26514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37" hR="21600" stAng="10800000" swAng="5400000"/>
                <a:lnTo>
                  <a:pt x="11188" y="0"/>
                </a:lnTo>
                <a:arcTo wR="9637" hR="21600" stAng="-5400000" swAng="3596401"/>
                <a:lnTo>
                  <a:pt x="21294" y="16200"/>
                </a:lnTo>
                <a:lnTo>
                  <a:pt x="20049" y="21600"/>
                </a:lnTo>
                <a:lnTo>
                  <a:pt x="18191" y="16200"/>
                </a:lnTo>
                <a:lnTo>
                  <a:pt x="18967" y="16200"/>
                </a:lnTo>
                <a:arcTo wR="9637" hR="21600" stAng="-1803599" swAng="-3472628"/>
                <a:lnTo>
                  <a:pt x="10412" y="70"/>
                </a:lnTo>
                <a:arcTo wR="9637" hR="21600" stAng="-5523773" swAng="-5276227"/>
                <a:close/>
              </a:path>
              <a:path fill="darkenLess" w="21600" h="21600">
                <a:moveTo>
                  <a:pt x="0" y="21600"/>
                </a:moveTo>
                <a:arcTo wR="9637" hR="21600" stAng="10800000" swAng="5400000"/>
                <a:lnTo>
                  <a:pt x="9637" y="0"/>
                </a:lnTo>
                <a:arcTo wR="9637" hR="21600" stAng="-5400000" swAng="123773"/>
                <a:lnTo>
                  <a:pt x="10412" y="70"/>
                </a:lnTo>
                <a:arcTo wR="9637" hR="21600" stAng="-5523773" swAng="-5276227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rved Down Arrow 7"/>
          <p:cNvSpPr/>
          <p:nvPr/>
        </p:nvSpPr>
        <p:spPr>
          <a:xfrm rot="5005800">
            <a:off x="6670800" y="3089880"/>
            <a:ext cx="2428920" cy="1071720"/>
          </a:xfrm>
          <a:custGeom>
            <a:avLst/>
            <a:gdLst>
              <a:gd name="textAreaLeft" fmla="*/ 506520 w 2428920"/>
              <a:gd name="textAreaRight" fmla="*/ 1788480 w 2428920"/>
              <a:gd name="textAreaTop" fmla="*/ 143280 h 1071720"/>
              <a:gd name="textAreaBottom" fmla="*/ 92844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13" hR="21600" stAng="10800000" swAng="5400000"/>
                <a:lnTo>
                  <a:pt x="11396" y="0"/>
                </a:lnTo>
                <a:arcTo wR="9013" hR="21600" stAng="-5400000" swAng="3495088"/>
                <a:lnTo>
                  <a:pt x="21314" y="16200"/>
                </a:lnTo>
                <a:lnTo>
                  <a:pt x="19218" y="21600"/>
                </a:lnTo>
                <a:lnTo>
                  <a:pt x="16549" y="16200"/>
                </a:lnTo>
                <a:lnTo>
                  <a:pt x="17740" y="16200"/>
                </a:lnTo>
                <a:arcTo wR="9013" hR="21600" stAng="-1904912" swAng="-3303973"/>
                <a:lnTo>
                  <a:pt x="10205" y="190"/>
                </a:lnTo>
                <a:arcTo wR="9013" hR="21600" stAng="-5591115" swAng="-5208885"/>
                <a:close/>
              </a:path>
              <a:path fill="darkenLess" w="21600" h="21600">
                <a:moveTo>
                  <a:pt x="0" y="21600"/>
                </a:moveTo>
                <a:arcTo wR="9013" hR="21600" stAng="10800000" swAng="5400000"/>
                <a:lnTo>
                  <a:pt x="9013" y="0"/>
                </a:lnTo>
                <a:arcTo wR="9013" hR="21600" stAng="-5400000" swAng="191115"/>
                <a:lnTo>
                  <a:pt x="10205" y="190"/>
                </a:lnTo>
                <a:arcTo wR="9013" hR="21600" stAng="-5591115" swAng="-5208885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rved Down Arrow 8"/>
          <p:cNvSpPr/>
          <p:nvPr/>
        </p:nvSpPr>
        <p:spPr>
          <a:xfrm rot="21319800">
            <a:off x="3669840" y="109440"/>
            <a:ext cx="2724120" cy="995400"/>
          </a:xfrm>
          <a:custGeom>
            <a:avLst/>
            <a:gdLst>
              <a:gd name="textAreaLeft" fmla="*/ 587520 w 2724120"/>
              <a:gd name="textAreaRight" fmla="*/ 2012040 w 27241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0" hR="21600" stAng="10800000" swAng="5400000"/>
                <a:lnTo>
                  <a:pt x="11293" y="0"/>
                </a:lnTo>
                <a:arcTo wR="9320" hR="21600" stAng="-5400000" swAng="3546220"/>
                <a:lnTo>
                  <a:pt x="21304" y="16200"/>
                </a:lnTo>
                <a:lnTo>
                  <a:pt x="19627" y="21600"/>
                </a:lnTo>
                <a:lnTo>
                  <a:pt x="17357" y="16200"/>
                </a:lnTo>
                <a:lnTo>
                  <a:pt x="18344" y="16200"/>
                </a:lnTo>
                <a:arcTo wR="9320" hR="21600" stAng="-1853780" swAng="-3388437"/>
                <a:lnTo>
                  <a:pt x="10307" y="121"/>
                </a:lnTo>
                <a:arcTo wR="9320" hR="21600" stAng="-5557782" swAng="-5242218"/>
                <a:close/>
              </a:path>
              <a:path fill="darkenLess" w="21600" h="21600">
                <a:moveTo>
                  <a:pt x="0" y="21600"/>
                </a:moveTo>
                <a:arcTo wR="9320" hR="21600" stAng="10800000" swAng="5400000"/>
                <a:lnTo>
                  <a:pt x="9320" y="0"/>
                </a:lnTo>
                <a:arcTo wR="9320" hR="21600" stAng="-5400000" swAng="157782"/>
                <a:lnTo>
                  <a:pt x="10307" y="121"/>
                </a:lnTo>
                <a:arcTo wR="9320" hR="21600" stAng="-5557782" swAng="-5242218"/>
                <a:close/>
              </a:path>
            </a:pathLst>
          </a:custGeom>
          <a:solidFill>
            <a:srgbClr val="333399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642960" y="0"/>
            <a:ext cx="3071880" cy="26431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6572160" y="4643280"/>
            <a:ext cx="2357640" cy="2214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1071720" y="4000680"/>
            <a:ext cx="3000240" cy="2857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6215040" y="0"/>
            <a:ext cx="2714760" cy="27860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Callout 3"/>
          <p:cNvSpPr/>
          <p:nvPr/>
        </p:nvSpPr>
        <p:spPr>
          <a:xfrm>
            <a:off x="1285920" y="1500120"/>
            <a:ext cx="3000240" cy="1285920"/>
          </a:xfrm>
          <a:prstGeom prst="rightArrowCallout">
            <a:avLst>
              <a:gd name="adj1" fmla="val 25002"/>
              <a:gd name="adj2" fmla="val 25000"/>
              <a:gd name="adj3" fmla="val 24995"/>
              <a:gd name="adj4" fmla="val 64977"/>
            </a:avLst>
          </a:prstGeom>
          <a:solidFill>
            <a:srgbClr val="80808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Callout 4"/>
          <p:cNvSpPr/>
          <p:nvPr/>
        </p:nvSpPr>
        <p:spPr>
          <a:xfrm>
            <a:off x="1214280" y="4572000"/>
            <a:ext cx="3000600" cy="128592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80808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ight Arrow Callout 5"/>
          <p:cNvSpPr/>
          <p:nvPr/>
        </p:nvSpPr>
        <p:spPr>
          <a:xfrm>
            <a:off x="1214280" y="3000240"/>
            <a:ext cx="3000600" cy="128592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80808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evel 6"/>
          <p:cNvSpPr/>
          <p:nvPr/>
        </p:nvSpPr>
        <p:spPr>
          <a:xfrm>
            <a:off x="4429080" y="1500120"/>
            <a:ext cx="4071960" cy="4643640"/>
          </a:xfrm>
          <a:prstGeom prst="bevel">
            <a:avLst>
              <a:gd name="adj" fmla="val 12500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eft-Right Arrow Callout 3"/>
          <p:cNvSpPr/>
          <p:nvPr/>
        </p:nvSpPr>
        <p:spPr>
          <a:xfrm>
            <a:off x="2928960" y="2500200"/>
            <a:ext cx="3214800" cy="1928880"/>
          </a:xfrm>
          <a:custGeom>
            <a:avLst/>
            <a:gdLst>
              <a:gd name="textAreaLeft" fmla="*/ 833760 w 3214800"/>
              <a:gd name="textAreaRight" fmla="*/ 2381040 w 321480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8360" y="8100"/>
                </a:lnTo>
                <a:lnTo>
                  <a:pt x="18360" y="5500"/>
                </a:lnTo>
                <a:lnTo>
                  <a:pt x="21600" y="10800"/>
                </a:lnTo>
                <a:lnTo>
                  <a:pt x="18360" y="16100"/>
                </a:lnTo>
                <a:lnTo>
                  <a:pt x="18360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3240" y="13500"/>
                </a:lnTo>
                <a:lnTo>
                  <a:pt x="3240" y="16100"/>
                </a:lnTo>
                <a:lnTo>
                  <a:pt x="0" y="10800"/>
                </a:lnTo>
                <a:lnTo>
                  <a:pt x="3240" y="5500"/>
                </a:lnTo>
                <a:lnTo>
                  <a:pt x="3240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ame 4"/>
          <p:cNvSpPr/>
          <p:nvPr/>
        </p:nvSpPr>
        <p:spPr>
          <a:xfrm>
            <a:off x="6357960" y="2214720"/>
            <a:ext cx="2500200" cy="2214360"/>
          </a:xfrm>
          <a:custGeom>
            <a:avLst/>
            <a:gdLst/>
            <a:ahLst/>
            <a:rect l="l" t="t" r="r" b="b"/>
            <a:pathLst>
              <a:path w="2500330" h="2214578">
                <a:moveTo>
                  <a:pt x="0" y="0"/>
                </a:moveTo>
                <a:lnTo>
                  <a:pt x="2500330" y="0"/>
                </a:lnTo>
                <a:lnTo>
                  <a:pt x="2500330" y="2214578"/>
                </a:lnTo>
                <a:lnTo>
                  <a:pt x="0" y="2214578"/>
                </a:lnTo>
                <a:lnTo>
                  <a:pt x="0" y="0"/>
                </a:lnTo>
                <a:close/>
                <a:moveTo>
                  <a:pt x="276822" y="276822"/>
                </a:moveTo>
                <a:lnTo>
                  <a:pt x="276822" y="1937756"/>
                </a:lnTo>
                <a:lnTo>
                  <a:pt x="2223508" y="1937756"/>
                </a:lnTo>
                <a:lnTo>
                  <a:pt x="2223508" y="276822"/>
                </a:lnTo>
                <a:lnTo>
                  <a:pt x="276822" y="2768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ame 5"/>
          <p:cNvSpPr/>
          <p:nvPr/>
        </p:nvSpPr>
        <p:spPr>
          <a:xfrm>
            <a:off x="357120" y="2357280"/>
            <a:ext cx="2500560" cy="2214720"/>
          </a:xfrm>
          <a:custGeom>
            <a:avLst/>
            <a:gdLst/>
            <a:ahLst/>
            <a:rect l="l" t="t" r="r" b="b"/>
            <a:pathLst>
              <a:path w="2500330" h="2214578">
                <a:moveTo>
                  <a:pt x="0" y="0"/>
                </a:moveTo>
                <a:lnTo>
                  <a:pt x="2500330" y="0"/>
                </a:lnTo>
                <a:lnTo>
                  <a:pt x="2500330" y="2214578"/>
                </a:lnTo>
                <a:lnTo>
                  <a:pt x="0" y="2214578"/>
                </a:lnTo>
                <a:lnTo>
                  <a:pt x="0" y="0"/>
                </a:lnTo>
                <a:close/>
                <a:moveTo>
                  <a:pt x="276822" y="276822"/>
                </a:moveTo>
                <a:lnTo>
                  <a:pt x="276822" y="1937756"/>
                </a:lnTo>
                <a:lnTo>
                  <a:pt x="2223508" y="1937756"/>
                </a:lnTo>
                <a:lnTo>
                  <a:pt x="2223508" y="276822"/>
                </a:lnTo>
                <a:lnTo>
                  <a:pt x="276822" y="2768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692880" y="323532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89040" y="314316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6618600" y="321480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10T01:18:45Z</dcterms:modified>
  <cp:revision>581</cp:revision>
  <dc:subject/>
  <dc:title>Diapositiva 1</dc:title>
</cp:coreProperties>
</file>