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183-45CE-4116-97FA-9F3BFD60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C48-2626-4997-8F14-9F344077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DCE-C7D5-4C05-AE13-62F52EBF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3BF-9673-4254-BF7D-DF641BA1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4BD-8DD0-4D71-B5ED-3F157632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208-58A6-46E0-A4F3-4BE72F8A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540-F10A-484E-9B7B-9D7604E0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DBE-4B3E-4777-8720-9551F5A0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13B-3AB0-4B96-B65F-C6C68FB5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FD0-2731-4F2B-8EE2-5FCC376B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F81-FA0A-4BE4-B394-5804828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58B-63D7-4794-BA32-BC15C306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53BB-3230-4343-91BB-80D091C633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06560" y="1077840"/>
            <a:ext cx="633744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10800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Up Arrow 5" descr=""/>
          <p:cNvPicPr/>
          <p:nvPr/>
        </p:nvPicPr>
        <p:blipFill>
          <a:blip r:embed="rId1"/>
          <a:stretch/>
        </p:blipFill>
        <p:spPr>
          <a:xfrm>
            <a:off x="7089840" y="1792440"/>
            <a:ext cx="1060560" cy="480348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2"/>
          <a:stretch/>
        </p:blipFill>
        <p:spPr>
          <a:xfrm>
            <a:off x="6718320" y="3017880"/>
            <a:ext cx="657360" cy="35719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7" descr=""/>
          <p:cNvPicPr/>
          <p:nvPr/>
        </p:nvPicPr>
        <p:blipFill>
          <a:blip r:embed="rId3"/>
          <a:stretch/>
        </p:blipFill>
        <p:spPr>
          <a:xfrm>
            <a:off x="6004080" y="3529080"/>
            <a:ext cx="658800" cy="304308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8" descr=""/>
          <p:cNvPicPr/>
          <p:nvPr/>
        </p:nvPicPr>
        <p:blipFill>
          <a:blip r:embed="rId4"/>
          <a:stretch/>
        </p:blipFill>
        <p:spPr>
          <a:xfrm>
            <a:off x="5357880" y="3981600"/>
            <a:ext cx="66492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Flowchart: Connector 9"/>
          <p:cNvSpPr/>
          <p:nvPr/>
        </p:nvSpPr>
        <p:spPr>
          <a:xfrm>
            <a:off x="1333440" y="2087640"/>
            <a:ext cx="71460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inus 10"/>
          <p:cNvSpPr/>
          <p:nvPr/>
        </p:nvSpPr>
        <p:spPr>
          <a:xfrm>
            <a:off x="1547640" y="2230560"/>
            <a:ext cx="3929400" cy="642960"/>
          </a:xfrm>
          <a:custGeom>
            <a:avLst/>
            <a:gdLst/>
            <a:ahLst/>
            <a:rect l="l" t="t" r="r" b="b"/>
            <a:pathLst>
              <a:path w="3929090" h="642942">
                <a:moveTo>
                  <a:pt x="520801" y="245861"/>
                </a:moveTo>
                <a:lnTo>
                  <a:pt x="3408289" y="245861"/>
                </a:lnTo>
                <a:lnTo>
                  <a:pt x="3408289" y="397081"/>
                </a:lnTo>
                <a:lnTo>
                  <a:pt x="520801" y="397081"/>
                </a:lnTo>
                <a:lnTo>
                  <a:pt x="520801" y="245861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owchart: Connector 11"/>
          <p:cNvSpPr/>
          <p:nvPr/>
        </p:nvSpPr>
        <p:spPr>
          <a:xfrm>
            <a:off x="1333440" y="2801880"/>
            <a:ext cx="714600" cy="71460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owchart: Connector 12"/>
          <p:cNvSpPr/>
          <p:nvPr/>
        </p:nvSpPr>
        <p:spPr>
          <a:xfrm rot="20923800">
            <a:off x="1323720" y="4936680"/>
            <a:ext cx="714240" cy="71460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lowchart: Connector 13"/>
          <p:cNvSpPr/>
          <p:nvPr/>
        </p:nvSpPr>
        <p:spPr>
          <a:xfrm>
            <a:off x="1333440" y="4230720"/>
            <a:ext cx="71460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lowchart: Connector 14"/>
          <p:cNvSpPr/>
          <p:nvPr/>
        </p:nvSpPr>
        <p:spPr>
          <a:xfrm>
            <a:off x="1333440" y="3516480"/>
            <a:ext cx="71460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inus 15"/>
          <p:cNvSpPr/>
          <p:nvPr/>
        </p:nvSpPr>
        <p:spPr>
          <a:xfrm>
            <a:off x="1476360" y="3087720"/>
            <a:ext cx="3929040" cy="642960"/>
          </a:xfrm>
          <a:custGeom>
            <a:avLst/>
            <a:gdLst/>
            <a:ahLst/>
            <a:rect l="l" t="t" r="r" b="b"/>
            <a:pathLst>
              <a:path w="3929090" h="642942">
                <a:moveTo>
                  <a:pt x="520801" y="245861"/>
                </a:moveTo>
                <a:lnTo>
                  <a:pt x="3408289" y="245861"/>
                </a:lnTo>
                <a:lnTo>
                  <a:pt x="3408289" y="397081"/>
                </a:lnTo>
                <a:lnTo>
                  <a:pt x="520801" y="397081"/>
                </a:lnTo>
                <a:lnTo>
                  <a:pt x="520801" y="245861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inus 16"/>
          <p:cNvSpPr/>
          <p:nvPr/>
        </p:nvSpPr>
        <p:spPr>
          <a:xfrm>
            <a:off x="1476360" y="3801960"/>
            <a:ext cx="3929040" cy="642960"/>
          </a:xfrm>
          <a:custGeom>
            <a:avLst/>
            <a:gdLst/>
            <a:ahLst/>
            <a:rect l="l" t="t" r="r" b="b"/>
            <a:pathLst>
              <a:path w="3929090" h="642942">
                <a:moveTo>
                  <a:pt x="520801" y="245861"/>
                </a:moveTo>
                <a:lnTo>
                  <a:pt x="3408289" y="245861"/>
                </a:lnTo>
                <a:lnTo>
                  <a:pt x="3408289" y="397081"/>
                </a:lnTo>
                <a:lnTo>
                  <a:pt x="520801" y="397081"/>
                </a:lnTo>
                <a:lnTo>
                  <a:pt x="520801" y="245861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inus 17"/>
          <p:cNvSpPr/>
          <p:nvPr/>
        </p:nvSpPr>
        <p:spPr>
          <a:xfrm>
            <a:off x="1476360" y="4444920"/>
            <a:ext cx="3929040" cy="642960"/>
          </a:xfrm>
          <a:custGeom>
            <a:avLst/>
            <a:gdLst/>
            <a:ahLst/>
            <a:rect l="l" t="t" r="r" b="b"/>
            <a:pathLst>
              <a:path w="3929090" h="642942">
                <a:moveTo>
                  <a:pt x="520801" y="245861"/>
                </a:moveTo>
                <a:lnTo>
                  <a:pt x="3408289" y="245861"/>
                </a:lnTo>
                <a:lnTo>
                  <a:pt x="3408289" y="397081"/>
                </a:lnTo>
                <a:lnTo>
                  <a:pt x="520801" y="397081"/>
                </a:lnTo>
                <a:lnTo>
                  <a:pt x="520801" y="245861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inus 18"/>
          <p:cNvSpPr/>
          <p:nvPr/>
        </p:nvSpPr>
        <p:spPr>
          <a:xfrm>
            <a:off x="1476360" y="5159520"/>
            <a:ext cx="3929040" cy="642960"/>
          </a:xfrm>
          <a:custGeom>
            <a:avLst/>
            <a:gdLst/>
            <a:ahLst/>
            <a:rect l="l" t="t" r="r" b="b"/>
            <a:pathLst>
              <a:path w="3929090" h="642942">
                <a:moveTo>
                  <a:pt x="520801" y="245861"/>
                </a:moveTo>
                <a:lnTo>
                  <a:pt x="3408289" y="245861"/>
                </a:lnTo>
                <a:lnTo>
                  <a:pt x="3408289" y="397081"/>
                </a:lnTo>
                <a:lnTo>
                  <a:pt x="520801" y="397081"/>
                </a:lnTo>
                <a:lnTo>
                  <a:pt x="520801" y="245861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2308320" y="20876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2522880" y="28735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2594160" y="358776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2665800" y="430200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2665800" y="494496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lowchart: Magnetic Disk 5"/>
          <p:cNvSpPr/>
          <p:nvPr/>
        </p:nvSpPr>
        <p:spPr>
          <a:xfrm>
            <a:off x="3325680" y="5511960"/>
            <a:ext cx="150048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owchart: Magnetic Disk 6"/>
          <p:cNvSpPr/>
          <p:nvPr/>
        </p:nvSpPr>
        <p:spPr>
          <a:xfrm>
            <a:off x="6469200" y="358308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lowchart: Magnetic Disk 7"/>
          <p:cNvSpPr/>
          <p:nvPr/>
        </p:nvSpPr>
        <p:spPr>
          <a:xfrm>
            <a:off x="7540560" y="279720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lowchart: Magnetic Disk 8"/>
          <p:cNvSpPr/>
          <p:nvPr/>
        </p:nvSpPr>
        <p:spPr>
          <a:xfrm>
            <a:off x="4683240" y="494028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lowchart: Magnetic Disk 9"/>
          <p:cNvSpPr/>
          <p:nvPr/>
        </p:nvSpPr>
        <p:spPr>
          <a:xfrm>
            <a:off x="5540400" y="422604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10"/>
          <p:cNvSpPr/>
          <p:nvPr/>
        </p:nvSpPr>
        <p:spPr>
          <a:xfrm>
            <a:off x="468360" y="1582560"/>
            <a:ext cx="4929120" cy="29289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7798680" y="265428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4869720" y="479736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3440880" y="522612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5754600" y="4083120"/>
            <a:ext cx="113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6512760" y="351144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urved Down Arrow 3"/>
          <p:cNvSpPr/>
          <p:nvPr/>
        </p:nvSpPr>
        <p:spPr>
          <a:xfrm rot="15951000">
            <a:off x="1764360" y="2856240"/>
            <a:ext cx="2428920" cy="1071360"/>
          </a:xfrm>
          <a:custGeom>
            <a:avLst/>
            <a:gdLst>
              <a:gd name="textAreaLeft" fmla="*/ 506520 w 2428920"/>
              <a:gd name="textAreaRight" fmla="*/ 1788480 w 2428920"/>
              <a:gd name="textAreaTop" fmla="*/ 143280 h 1071360"/>
              <a:gd name="textAreaBottom" fmla="*/ 92808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3" hR="21600" stAng="10800000" swAng="5400000"/>
                <a:lnTo>
                  <a:pt x="11396" y="0"/>
                </a:lnTo>
                <a:arcTo wR="9013" hR="21600" stAng="-5400000" swAng="3495088"/>
                <a:lnTo>
                  <a:pt x="21314" y="16200"/>
                </a:lnTo>
                <a:lnTo>
                  <a:pt x="19218" y="21600"/>
                </a:lnTo>
                <a:lnTo>
                  <a:pt x="16549" y="16200"/>
                </a:lnTo>
                <a:lnTo>
                  <a:pt x="17740" y="16200"/>
                </a:lnTo>
                <a:arcTo wR="9013" hR="21600" stAng="-1904912" swAng="-3303973"/>
                <a:lnTo>
                  <a:pt x="10205" y="190"/>
                </a:lnTo>
                <a:arcTo wR="9013" hR="21600" stAng="-5591115" swAng="-5208885"/>
                <a:close/>
              </a:path>
              <a:path fill="darkenLess" w="21600" h="21600">
                <a:moveTo>
                  <a:pt x="0" y="21600"/>
                </a:moveTo>
                <a:arcTo wR="9013" hR="21600" stAng="10800000" swAng="5400000"/>
                <a:lnTo>
                  <a:pt x="9013" y="0"/>
                </a:lnTo>
                <a:arcTo wR="9013" hR="21600" stAng="-5400000" swAng="191115"/>
                <a:lnTo>
                  <a:pt x="10205" y="190"/>
                </a:lnTo>
                <a:arcTo wR="9013" hR="21600" stAng="-5591115" swAng="-5208885"/>
                <a:close/>
              </a:path>
            </a:pathLst>
          </a:custGeom>
          <a:solidFill>
            <a:srgbClr val="333399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urved Down Arrow 4"/>
          <p:cNvSpPr/>
          <p:nvPr/>
        </p:nvSpPr>
        <p:spPr>
          <a:xfrm rot="10965000">
            <a:off x="4046040" y="5436360"/>
            <a:ext cx="2651400" cy="762120"/>
          </a:xfrm>
          <a:custGeom>
            <a:avLst/>
            <a:gdLst>
              <a:gd name="textAreaLeft" fmla="*/ 591480 w 2651400"/>
              <a:gd name="textAreaRight" fmla="*/ 1964880 w 26514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37" hR="21600" stAng="10800000" swAng="5400000"/>
                <a:lnTo>
                  <a:pt x="11188" y="0"/>
                </a:lnTo>
                <a:arcTo wR="9637" hR="21600" stAng="-5400000" swAng="3596401"/>
                <a:lnTo>
                  <a:pt x="21294" y="16200"/>
                </a:lnTo>
                <a:lnTo>
                  <a:pt x="20049" y="21600"/>
                </a:lnTo>
                <a:lnTo>
                  <a:pt x="18191" y="16200"/>
                </a:lnTo>
                <a:lnTo>
                  <a:pt x="18967" y="16200"/>
                </a:lnTo>
                <a:arcTo wR="9637" hR="21600" stAng="-1803599" swAng="-3472628"/>
                <a:lnTo>
                  <a:pt x="10412" y="70"/>
                </a:lnTo>
                <a:arcTo wR="9637" hR="21600" stAng="-5523773" swAng="-5276227"/>
                <a:close/>
              </a:path>
              <a:path fill="darkenLess" w="21600" h="21600">
                <a:moveTo>
                  <a:pt x="0" y="21600"/>
                </a:moveTo>
                <a:arcTo wR="9637" hR="21600" stAng="10800000" swAng="5400000"/>
                <a:lnTo>
                  <a:pt x="9637" y="0"/>
                </a:lnTo>
                <a:arcTo wR="9637" hR="21600" stAng="-5400000" swAng="123773"/>
                <a:lnTo>
                  <a:pt x="10412" y="70"/>
                </a:lnTo>
                <a:arcTo wR="9637" hR="21600" stAng="-5523773" swAng="-5276227"/>
                <a:close/>
              </a:path>
            </a:pathLst>
          </a:custGeom>
          <a:solidFill>
            <a:srgbClr val="333399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urved Down Arrow 5"/>
          <p:cNvSpPr/>
          <p:nvPr/>
        </p:nvSpPr>
        <p:spPr>
          <a:xfrm rot="5005800">
            <a:off x="6670800" y="3089880"/>
            <a:ext cx="2428920" cy="1071720"/>
          </a:xfrm>
          <a:custGeom>
            <a:avLst/>
            <a:gdLst>
              <a:gd name="textAreaLeft" fmla="*/ 506520 w 2428920"/>
              <a:gd name="textAreaRight" fmla="*/ 1788480 w 2428920"/>
              <a:gd name="textAreaTop" fmla="*/ 143280 h 1071720"/>
              <a:gd name="textAreaBottom" fmla="*/ 92844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3" hR="21600" stAng="10800000" swAng="5400000"/>
                <a:lnTo>
                  <a:pt x="11396" y="0"/>
                </a:lnTo>
                <a:arcTo wR="9013" hR="21600" stAng="-5400000" swAng="3495088"/>
                <a:lnTo>
                  <a:pt x="21314" y="16200"/>
                </a:lnTo>
                <a:lnTo>
                  <a:pt x="19218" y="21600"/>
                </a:lnTo>
                <a:lnTo>
                  <a:pt x="16549" y="16200"/>
                </a:lnTo>
                <a:lnTo>
                  <a:pt x="17740" y="16200"/>
                </a:lnTo>
                <a:arcTo wR="9013" hR="21600" stAng="-1904912" swAng="-3303973"/>
                <a:lnTo>
                  <a:pt x="10205" y="190"/>
                </a:lnTo>
                <a:arcTo wR="9013" hR="21600" stAng="-5591115" swAng="-5208885"/>
                <a:close/>
              </a:path>
              <a:path fill="darkenLess" w="21600" h="21600">
                <a:moveTo>
                  <a:pt x="0" y="21600"/>
                </a:moveTo>
                <a:arcTo wR="9013" hR="21600" stAng="10800000" swAng="5400000"/>
                <a:lnTo>
                  <a:pt x="9013" y="0"/>
                </a:lnTo>
                <a:arcTo wR="9013" hR="21600" stAng="-5400000" swAng="191115"/>
                <a:lnTo>
                  <a:pt x="10205" y="190"/>
                </a:lnTo>
                <a:arcTo wR="9013" hR="21600" stAng="-5591115" swAng="-5208885"/>
                <a:close/>
              </a:path>
            </a:pathLst>
          </a:custGeom>
          <a:solidFill>
            <a:srgbClr val="333399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urved Down Arrow 6"/>
          <p:cNvSpPr/>
          <p:nvPr/>
        </p:nvSpPr>
        <p:spPr>
          <a:xfrm rot="21319800">
            <a:off x="3669840" y="109440"/>
            <a:ext cx="2724120" cy="995400"/>
          </a:xfrm>
          <a:custGeom>
            <a:avLst/>
            <a:gdLst>
              <a:gd name="textAreaLeft" fmla="*/ 587520 w 2724120"/>
              <a:gd name="textAreaRight" fmla="*/ 2012040 w 2724120"/>
              <a:gd name="textAreaTop" fmla="*/ 133200 h 995400"/>
              <a:gd name="textAreaBottom" fmla="*/ 86220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0" hR="21600" stAng="10800000" swAng="5400000"/>
                <a:lnTo>
                  <a:pt x="11293" y="0"/>
                </a:lnTo>
                <a:arcTo wR="9320" hR="21600" stAng="-5400000" swAng="3546220"/>
                <a:lnTo>
                  <a:pt x="21304" y="16200"/>
                </a:lnTo>
                <a:lnTo>
                  <a:pt x="19627" y="21600"/>
                </a:lnTo>
                <a:lnTo>
                  <a:pt x="17357" y="16200"/>
                </a:lnTo>
                <a:lnTo>
                  <a:pt x="18344" y="16200"/>
                </a:lnTo>
                <a:arcTo wR="9320" hR="21600" stAng="-1853780" swAng="-3388437"/>
                <a:lnTo>
                  <a:pt x="10307" y="121"/>
                </a:lnTo>
                <a:arcTo wR="9320" hR="21600" stAng="-5557782" swAng="-5242218"/>
                <a:close/>
              </a:path>
              <a:path fill="darkenLess" w="21600" h="21600">
                <a:moveTo>
                  <a:pt x="0" y="21600"/>
                </a:moveTo>
                <a:arcTo wR="9320" hR="21600" stAng="10800000" swAng="5400000"/>
                <a:lnTo>
                  <a:pt x="9320" y="0"/>
                </a:lnTo>
                <a:arcTo wR="9320" hR="21600" stAng="-5400000" swAng="157782"/>
                <a:lnTo>
                  <a:pt x="10307" y="121"/>
                </a:lnTo>
                <a:arcTo wR="9320" hR="21600" stAng="-5557782" swAng="-5242218"/>
                <a:close/>
              </a:path>
            </a:pathLst>
          </a:custGeom>
          <a:solidFill>
            <a:srgbClr val="333399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642960" y="0"/>
            <a:ext cx="3071880" cy="26431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6572160" y="4643280"/>
            <a:ext cx="2357640" cy="2214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1071720" y="4000680"/>
            <a:ext cx="3000240" cy="2857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6215040" y="0"/>
            <a:ext cx="2714760" cy="27860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10T01:17:43Z</dcterms:modified>
  <cp:revision>734</cp:revision>
  <dc:subject/>
  <dc:title>Diapositiva 1</dc:title>
</cp:coreProperties>
</file>