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C77-7038-48D1-B907-3F30284A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3101-0445-499C-8CB9-E37F039C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7ED-25D8-4DEF-852E-A5BAF639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AD0-DF23-4B68-8517-E72C7056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50FE-0F7D-48C6-8EF5-14BDE78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143-0A56-4B04-B089-B5C93D11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88EE-59BB-413C-B3FF-B636B6DA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B1B-0DF4-4EB1-A721-9D1B85D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106-956A-482E-B246-D494B601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8C4-59D1-43B5-8CE2-78FBC4E5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B11-D9B7-4C16-A4AD-08EA326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FD03-FDAA-417D-B2D6-220A132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12B1-1CEB-446D-AE62-2A549C711F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9"/>
          <p:cNvSpPr/>
          <p:nvPr/>
        </p:nvSpPr>
        <p:spPr>
          <a:xfrm>
            <a:off x="1000080" y="52149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ction Button: Sound 3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 Callout 4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 Callout 5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 Callout 6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</cp:lastModifiedBy>
  <dcterms:modified xsi:type="dcterms:W3CDTF">2016-02-05T17:14:04Z</dcterms:modified>
  <cp:revision>133</cp:revision>
  <dc:subject/>
  <dc:title>Diapositiva 1</dc:title>
</cp:coreProperties>
</file>