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945-BEE6-44B4-B133-0E755A39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7A7-398F-4E63-A62B-8D347EC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230-33EF-4274-9F7B-E11BA682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C0B-64FA-476B-9EA4-D89C0698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4B7-A21D-4C71-8CA8-13835DF5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C2B-EDEC-4AB6-A99D-3146152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ADD-903E-406A-8847-0936091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306-F5FF-4AAB-963F-9C2FF48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6DF-738C-44FE-95CA-D3E7D66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1C6-89CC-441F-A87E-1823822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F1A-0068-43C2-A75C-78499C4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356-B82F-413E-9759-E369C13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D81-E4DF-4D0C-820A-CEC3F6228E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2e0f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68360" y="1268280"/>
            <a:ext cx="48639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2e0f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552680" y="6229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Quad Arrow Callout 3"/>
          <p:cNvSpPr/>
          <p:nvPr/>
        </p:nvSpPr>
        <p:spPr>
          <a:xfrm>
            <a:off x="3214800" y="1785960"/>
            <a:ext cx="2928960" cy="3286080"/>
          </a:xfrm>
          <a:prstGeom prst="pi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143000" y="2786040"/>
            <a:ext cx="2000160" cy="157176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3643200" y="5286240"/>
            <a:ext cx="2000520" cy="157176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6286680" y="2571840"/>
            <a:ext cx="2000160" cy="157140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571920" y="214200"/>
            <a:ext cx="2000160" cy="1571760"/>
          </a:xfrm>
          <a:prstGeom prst="ellips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857160" y="500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57160" y="27860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57216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643200" y="42876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715080" y="478620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577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857160" y="492912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643800" y="2571840"/>
            <a:ext cx="2143080" cy="16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3643200" y="2714760"/>
            <a:ext cx="2357640" cy="16430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12"/>
          <p:cNvSpPr/>
          <p:nvPr/>
        </p:nvSpPr>
        <p:spPr>
          <a:xfrm>
            <a:off x="314316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13"/>
          <p:cNvSpPr/>
          <p:nvPr/>
        </p:nvSpPr>
        <p:spPr>
          <a:xfrm>
            <a:off x="3286080" y="57862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4"/>
          <p:cNvSpPr/>
          <p:nvPr/>
        </p:nvSpPr>
        <p:spPr>
          <a:xfrm>
            <a:off x="6000840" y="142884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5"/>
          <p:cNvSpPr/>
          <p:nvPr/>
        </p:nvSpPr>
        <p:spPr>
          <a:xfrm>
            <a:off x="6286680" y="557208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16"/>
          <p:cNvSpPr/>
          <p:nvPr/>
        </p:nvSpPr>
        <p:spPr>
          <a:xfrm>
            <a:off x="7286760" y="2143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17"/>
          <p:cNvSpPr/>
          <p:nvPr/>
        </p:nvSpPr>
        <p:spPr>
          <a:xfrm rot="5400000">
            <a:off x="7179480" y="4250520"/>
            <a:ext cx="3571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8"/>
          <p:cNvSpPr/>
          <p:nvPr/>
        </p:nvSpPr>
        <p:spPr>
          <a:xfrm rot="5400000">
            <a:off x="2356200" y="4429800"/>
            <a:ext cx="3571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9"/>
          <p:cNvSpPr/>
          <p:nvPr/>
        </p:nvSpPr>
        <p:spPr>
          <a:xfrm rot="5164200">
            <a:off x="2037960" y="2139840"/>
            <a:ext cx="419040" cy="609480"/>
          </a:xfrm>
          <a:prstGeom prst="rightArrow">
            <a:avLst>
              <a:gd name="adj1" fmla="val 50000"/>
              <a:gd name="adj2" fmla="val 5407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Flowchart: Delay 3"/>
          <p:cNvSpPr/>
          <p:nvPr/>
        </p:nvSpPr>
        <p:spPr>
          <a:xfrm rot="16200000">
            <a:off x="2117880" y="2006280"/>
            <a:ext cx="996840" cy="156204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Process 4"/>
          <p:cNvSpPr/>
          <p:nvPr/>
        </p:nvSpPr>
        <p:spPr>
          <a:xfrm>
            <a:off x="1835280" y="3327480"/>
            <a:ext cx="156204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-Turn Arrow 5"/>
          <p:cNvSpPr/>
          <p:nvPr/>
        </p:nvSpPr>
        <p:spPr>
          <a:xfrm>
            <a:off x="2843280" y="692280"/>
            <a:ext cx="1571400" cy="1428480"/>
          </a:xfrm>
          <a:custGeom>
            <a:avLst/>
            <a:gdLst/>
            <a:ahLst/>
            <a:rect l="l" t="t" r="r" b="b"/>
            <a:pathLst>
              <a:path w="1571636" h="1428760">
                <a:moveTo>
                  <a:pt x="0" y="1428760"/>
                </a:moveTo>
                <a:lnTo>
                  <a:pt x="0" y="625083"/>
                </a:lnTo>
                <a:cubicBezTo>
                  <a:pt x="0" y="279859"/>
                  <a:pt x="279859" y="0"/>
                  <a:pt x="625083" y="0"/>
                </a:cubicBezTo>
                <a:lnTo>
                  <a:pt x="767959" y="0"/>
                </a:lnTo>
                <a:cubicBezTo>
                  <a:pt x="1113183" y="0"/>
                  <a:pt x="1393042" y="279859"/>
                  <a:pt x="1393042" y="625083"/>
                </a:cubicBezTo>
                <a:cubicBezTo>
                  <a:pt x="1393042" y="654849"/>
                  <a:pt x="1393041" y="684614"/>
                  <a:pt x="1393041" y="714380"/>
                </a:cubicBezTo>
                <a:lnTo>
                  <a:pt x="1571636" y="714380"/>
                </a:lnTo>
                <a:lnTo>
                  <a:pt x="1214446" y="1071570"/>
                </a:lnTo>
                <a:lnTo>
                  <a:pt x="857256" y="714380"/>
                </a:lnTo>
                <a:lnTo>
                  <a:pt x="1035851" y="714380"/>
                </a:lnTo>
                <a:lnTo>
                  <a:pt x="1035851" y="625083"/>
                </a:lnTo>
                <a:cubicBezTo>
                  <a:pt x="1035851" y="477130"/>
                  <a:pt x="915911" y="357190"/>
                  <a:pt x="767958" y="357190"/>
                </a:cubicBezTo>
                <a:lnTo>
                  <a:pt x="625083" y="357190"/>
                </a:lnTo>
                <a:cubicBezTo>
                  <a:pt x="477130" y="357190"/>
                  <a:pt x="357190" y="477130"/>
                  <a:pt x="357190" y="625083"/>
                </a:cubicBezTo>
                <a:lnTo>
                  <a:pt x="357190" y="1428760"/>
                </a:lnTo>
                <a:lnTo>
                  <a:pt x="0" y="142876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U-Turn Arrow 6"/>
          <p:cNvSpPr/>
          <p:nvPr/>
        </p:nvSpPr>
        <p:spPr>
          <a:xfrm>
            <a:off x="5796000" y="692280"/>
            <a:ext cx="1571760" cy="1428480"/>
          </a:xfrm>
          <a:custGeom>
            <a:avLst/>
            <a:gdLst/>
            <a:ahLst/>
            <a:rect l="l" t="t" r="r" b="b"/>
            <a:pathLst>
              <a:path w="1571636" h="1428760">
                <a:moveTo>
                  <a:pt x="0" y="1428760"/>
                </a:moveTo>
                <a:lnTo>
                  <a:pt x="0" y="625083"/>
                </a:lnTo>
                <a:cubicBezTo>
                  <a:pt x="0" y="279859"/>
                  <a:pt x="279859" y="0"/>
                  <a:pt x="625083" y="0"/>
                </a:cubicBezTo>
                <a:lnTo>
                  <a:pt x="767959" y="0"/>
                </a:lnTo>
                <a:cubicBezTo>
                  <a:pt x="1113183" y="0"/>
                  <a:pt x="1393042" y="279859"/>
                  <a:pt x="1393042" y="625083"/>
                </a:cubicBezTo>
                <a:cubicBezTo>
                  <a:pt x="1393042" y="654849"/>
                  <a:pt x="1393041" y="684614"/>
                  <a:pt x="1393041" y="714380"/>
                </a:cubicBezTo>
                <a:lnTo>
                  <a:pt x="1571636" y="714380"/>
                </a:lnTo>
                <a:lnTo>
                  <a:pt x="1214446" y="1071570"/>
                </a:lnTo>
                <a:lnTo>
                  <a:pt x="857256" y="714380"/>
                </a:lnTo>
                <a:lnTo>
                  <a:pt x="1035851" y="714380"/>
                </a:lnTo>
                <a:lnTo>
                  <a:pt x="1035851" y="625083"/>
                </a:lnTo>
                <a:cubicBezTo>
                  <a:pt x="1035851" y="477130"/>
                  <a:pt x="915911" y="357190"/>
                  <a:pt x="767958" y="357190"/>
                </a:cubicBezTo>
                <a:lnTo>
                  <a:pt x="625083" y="357190"/>
                </a:lnTo>
                <a:cubicBezTo>
                  <a:pt x="477130" y="357190"/>
                  <a:pt x="357190" y="477130"/>
                  <a:pt x="357190" y="625083"/>
                </a:cubicBezTo>
                <a:lnTo>
                  <a:pt x="357190" y="1428760"/>
                </a:lnTo>
                <a:lnTo>
                  <a:pt x="0" y="142876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lowchart: Process 7"/>
          <p:cNvSpPr/>
          <p:nvPr/>
        </p:nvSpPr>
        <p:spPr>
          <a:xfrm>
            <a:off x="3844800" y="3327480"/>
            <a:ext cx="156060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lowchart: Process 8"/>
          <p:cNvSpPr/>
          <p:nvPr/>
        </p:nvSpPr>
        <p:spPr>
          <a:xfrm>
            <a:off x="5869080" y="3363840"/>
            <a:ext cx="1560600" cy="3141720"/>
          </a:xfrm>
          <a:prstGeom prst="flowChartProcess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Delay 9"/>
          <p:cNvSpPr/>
          <p:nvPr/>
        </p:nvSpPr>
        <p:spPr>
          <a:xfrm rot="16200000">
            <a:off x="4130640" y="2030040"/>
            <a:ext cx="995400" cy="156060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owchart: Delay 10"/>
          <p:cNvSpPr/>
          <p:nvPr/>
        </p:nvSpPr>
        <p:spPr>
          <a:xfrm rot="16200000">
            <a:off x="6139800" y="2022840"/>
            <a:ext cx="996840" cy="1560600"/>
          </a:xfrm>
          <a:prstGeom prst="flowChartDelay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15:07Z</dcterms:modified>
  <cp:revision>754</cp:revision>
  <dc:subject/>
  <dc:title>Diapositiva 1</dc:title>
</cp:coreProperties>
</file>