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2A1B-3397-4D8C-A774-9E4D8E53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2E18-D2A7-4B77-A969-14F66948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F45D-F9B5-4495-BA72-814FAB61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580B-1390-4BF5-BF6F-2AFFD0B3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EE63-E144-42CF-9FEA-2FF5013A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4089-D16A-4981-B7BD-CFFB435F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0957-DCFF-4A68-BEF3-BB2EF6C0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4308-43A4-43CB-9F5D-32790A33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9894-DFF6-4540-A7DB-F6A039F6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AAB2-5BFC-4CF0-86E2-EFA19C82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9575-C0AC-4A7F-8536-010C2E35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FE46-7EE9-47F6-B08C-454048F9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EF75-9795-4E51-A7B7-336A410CEBC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4221000"/>
            <a:ext cx="41050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9"/>
          <p:cNvSpPr/>
          <p:nvPr/>
        </p:nvSpPr>
        <p:spPr>
          <a:xfrm>
            <a:off x="2122560" y="5229360"/>
            <a:ext cx="3457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929200" y="5786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</cp:lastModifiedBy>
  <dcterms:modified xsi:type="dcterms:W3CDTF">2016-02-26T13:02:52Z</dcterms:modified>
  <cp:revision>833</cp:revision>
  <dc:subject/>
  <dc:title>Diapositiva 1</dc:title>
</cp:coreProperties>
</file>